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831388" cy="73152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53640" y="4284360"/>
            <a:ext cx="79218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3000" y="167328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53640" y="428436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13000" y="428436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25506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32040" y="1673280"/>
            <a:ext cx="25506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10800" y="1673280"/>
            <a:ext cx="25506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53640" y="4284360"/>
            <a:ext cx="25506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32040" y="4284360"/>
            <a:ext cx="25506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10800" y="4284360"/>
            <a:ext cx="25506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386568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13000" y="1673280"/>
            <a:ext cx="386568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13880" y="422280"/>
            <a:ext cx="84013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000" y="1673280"/>
            <a:ext cx="386568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53640" y="428436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386568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3000" y="167328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13000" y="428436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000" y="167328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53640" y="4284360"/>
            <a:ext cx="79218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829800" cy="1219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32040">
              <a:spcBef>
                <a:spcPts val="349"/>
              </a:spcBef>
              <a:spcAft>
                <a:spcPts val="524"/>
              </a:spcAft>
              <a:buClr>
                <a:srgbClr val="ffff00"/>
              </a:buClr>
              <a:buFont typeface="Tahoma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06992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44000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Font typeface="Tahoma"/>
              <a:buChar char="»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44000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Font typeface="Tahoma"/>
              <a:buChar char="»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44000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Font typeface="Tahoma"/>
              <a:buChar char="»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" name="vslive_blue" descr=""/>
          <p:cNvPicPr/>
          <p:nvPr/>
        </p:nvPicPr>
        <p:blipFill>
          <a:blip r:embed="rId3"/>
          <a:stretch/>
        </p:blipFill>
        <p:spPr>
          <a:xfrm>
            <a:off x="7391520" y="6553080"/>
            <a:ext cx="210024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claritycon.com/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iona.com/products/iphome.htm" TargetMode="External"/><Relationship Id="rId3" Type="http://schemas.openxmlformats.org/officeDocument/2006/relationships/hyperlink" Target="http://www.roguewave.com/products/xml" TargetMode="External"/><Relationship Id="rId4" Type="http://schemas.openxmlformats.org/officeDocument/2006/relationships/hyperlink" Target="http://www.objectspace.com/products/" TargetMode="External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msdn.microsoft.com/soap" TargetMode="External"/><Relationship Id="rId3" Type="http://schemas.openxmlformats.org/officeDocument/2006/relationships/hyperlink" Target="http://msdn.microsoft.com/xml/articles/HBInterop.exe" TargetMode="External"/><Relationship Id="rId4" Type="http://schemas.openxmlformats.org/officeDocument/2006/relationships/hyperlink" Target="http://www.claritycon.com/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mailto:Jschmelz@claritycon.com" TargetMode="External"/><Relationship Id="rId3" Type="http://schemas.openxmlformats.org/officeDocument/2006/relationships/hyperlink" Target="http://www.claritycon.com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900000" y="2600280"/>
            <a:ext cx="8356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Build Cross-Platform Apps with SOAP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5638680" y="2666880"/>
            <a:ext cx="39625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Jay Schmelz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275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Partner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275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Clarity Consulting, Inc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275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275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Prerequisites for presentation: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275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I assume you know: 1) Visual Basic; 2) XML; and 3) the basics of SOAP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3"/>
              </a:spcBef>
              <a:spcAft>
                <a:spcPts val="312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3"/>
              </a:spcBef>
              <a:spcAft>
                <a:spcPts val="312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Tahoma"/>
              </a:rPr>
              <a:t>Level: Intermediat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514600"/>
            <a:ext cx="54100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800" spc="-1" strike="noStrike">
                <a:solidFill>
                  <a:srgbClr val="ffffff"/>
                </a:solidFill>
                <a:latin typeface="Tahoma"/>
              </a:rPr>
              <a:t>39</a:t>
            </a:r>
            <a:endParaRPr b="0" lang="en-US" sz="2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son Brothers Overview/Dem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e the prob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Brief SOAP Overvi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ding an XML Based Web Serv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grating into our COM+ Compon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OAP Overview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mple Object Access Protoc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ghtweight XML-based protocol for exchanging data or messa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fies format for request and response messa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OAP Message Format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600200"/>
            <a:ext cx="4343400" cy="4724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OAP Mess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2057400"/>
            <a:ext cx="3886200" cy="45720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HTTP Head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2819520"/>
            <a:ext cx="3886200" cy="320040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OAP Envelop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3200400"/>
            <a:ext cx="358164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OAP Hea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3657600"/>
            <a:ext cx="304812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Head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4572000"/>
            <a:ext cx="3581640" cy="12193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OAP Bod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5029200"/>
            <a:ext cx="304812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essage Name &amp; 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81280" y="1676520"/>
            <a:ext cx="1905120" cy="228600"/>
          </a:xfrm>
          <a:prstGeom prst="leftArrow">
            <a:avLst>
              <a:gd name="adj1" fmla="val 31944"/>
              <a:gd name="adj2" fmla="val 11667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1600200"/>
            <a:ext cx="3407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60280" y="1600200"/>
            <a:ext cx="310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he Complete SOAP Mess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2209680"/>
            <a:ext cx="1905120" cy="228600"/>
          </a:xfrm>
          <a:prstGeom prst="leftArrow">
            <a:avLst>
              <a:gd name="adj1" fmla="val 31944"/>
              <a:gd name="adj2" fmla="val 11667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2895480"/>
            <a:ext cx="1905120" cy="228600"/>
          </a:xfrm>
          <a:prstGeom prst="leftArrow">
            <a:avLst>
              <a:gd name="adj1" fmla="val 31944"/>
              <a:gd name="adj2" fmla="val 11667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3276720"/>
            <a:ext cx="1905120" cy="228600"/>
          </a:xfrm>
          <a:prstGeom prst="leftArrow">
            <a:avLst>
              <a:gd name="adj1" fmla="val 31944"/>
              <a:gd name="adj2" fmla="val 11667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3809880"/>
            <a:ext cx="1905120" cy="228600"/>
          </a:xfrm>
          <a:prstGeom prst="leftArrow">
            <a:avLst>
              <a:gd name="adj1" fmla="val 31944"/>
              <a:gd name="adj2" fmla="val 11667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4648320"/>
            <a:ext cx="1905120" cy="228600"/>
          </a:xfrm>
          <a:prstGeom prst="leftArrow">
            <a:avLst>
              <a:gd name="adj1" fmla="val 31944"/>
              <a:gd name="adj2" fmla="val 11667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5181480"/>
            <a:ext cx="1905120" cy="228600"/>
          </a:xfrm>
          <a:prstGeom prst="leftArrow">
            <a:avLst>
              <a:gd name="adj1" fmla="val 31944"/>
              <a:gd name="adj2" fmla="val 11667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90880" y="2133720"/>
            <a:ext cx="416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tandard HTTP and SOAP HTTP Head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1400" y="2819520"/>
            <a:ext cx="31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&lt;Envelope&gt; encloses paylo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03480" y="3200400"/>
            <a:ext cx="293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&lt;Header&gt; encloses head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52000" y="373392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ndividual head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3920" y="4572000"/>
            <a:ext cx="336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&lt;Body&gt; contains SOAP Mess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Name &amp; 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66040" y="5105520"/>
            <a:ext cx="305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XML Encoded SOAP Mess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Name &amp; 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OAP Example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ock quote meth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GetStockQuote(ByVal Symbol as String) As Doubl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224"/>
              </a:spcBef>
              <a:spcAft>
                <a:spcPts val="337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quest message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3200400"/>
            <a:ext cx="7925040" cy="327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SOAP-ENV:Envelop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xmlns:SOAPENV=“SOAPEnvelope-URI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OAP-ENV:encodingStyle=“SOAPEncoding-URI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SOAP-ENV: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m:GetStockQuote xmlns:m=“Some-URI”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symbol&gt;MSFT&lt;/symbol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m:GetStockQuot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SOAP-ENV: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SOAP-ENV:Envelop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OAP Example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onse mess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2209680"/>
            <a:ext cx="8077320" cy="327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2209680"/>
            <a:ext cx="8077320" cy="32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SOAP-ENV:Envelope xmlns:SOAPENV=“SOAPEnvelope-URI”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OAP-ENV:encodingStyle=“SOAPEncoding-URI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SOAP-ENV: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m:GetStockQuoteResponse xmlns:m=“Some-URI”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rice&gt;75.23&lt;/Pric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m:GetStockQuoteRespons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SOAP-ENV: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SOAP-ENV:Envelope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Microsoft SOAP Toolkit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ai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M components that wrap the SOAP Messag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WSDL generato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nefit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o need to master XML, SOAP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o need to learn wire protoco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everage existing skills and tool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WSD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b Services Description Langu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ML Schema file that describes the methods expo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SDL Sample - GetStockQuo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son Brothers Overview/Dem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e the prob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ef SOAP Overvi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Building an XML Based Web Serv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grating into our COM+ Compon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The Solution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1905120"/>
            <a:ext cx="4114800" cy="42670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indows2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1905120"/>
            <a:ext cx="4114800" cy="42670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Unix/Linux/Windows2000/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3809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S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3809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OM+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Objec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51055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OAPCli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O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51055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OAP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isten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2362320"/>
            <a:ext cx="1143000" cy="1066680"/>
          </a:xfrm>
          <a:prstGeom prst="can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QL2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772400" y="51055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OR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OR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48720" y="2362320"/>
            <a:ext cx="1143000" cy="1066680"/>
          </a:xfrm>
          <a:prstGeom prst="can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Orac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5" idx="3"/>
            <a:endCxn id="116" idx="1"/>
          </p:cNvCxnSpPr>
          <p:nvPr/>
        </p:nvCxnSpPr>
        <p:spPr>
          <a:xfrm>
            <a:off x="1752480" y="4228920"/>
            <a:ext cx="1067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9" idx="3"/>
            <a:endCxn id="116" idx="0"/>
          </p:cNvCxnSpPr>
          <p:nvPr/>
        </p:nvCxnSpPr>
        <p:spPr>
          <a:xfrm>
            <a:off x="3466800" y="3429000"/>
            <a:ext cx="10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2"/>
            <a:endCxn id="117" idx="0"/>
          </p:cNvCxnSpPr>
          <p:nvPr/>
        </p:nvCxnSpPr>
        <p:spPr>
          <a:xfrm>
            <a:off x="3466800" y="464832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5" name=""/>
          <p:cNvCxnSpPr>
            <a:stCxn id="117" idx="3"/>
            <a:endCxn id="118" idx="1"/>
          </p:cNvCxnSpPr>
          <p:nvPr/>
        </p:nvCxnSpPr>
        <p:spPr>
          <a:xfrm>
            <a:off x="4114440" y="5524200"/>
            <a:ext cx="16772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6" name=""/>
          <p:cNvCxnSpPr>
            <a:stCxn id="118" idx="3"/>
            <a:endCxn id="120" idx="1"/>
          </p:cNvCxnSpPr>
          <p:nvPr/>
        </p:nvCxnSpPr>
        <p:spPr>
          <a:xfrm>
            <a:off x="7086240" y="5524200"/>
            <a:ext cx="686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7" name=""/>
          <p:cNvCxnSpPr>
            <a:stCxn id="120" idx="0"/>
            <a:endCxn id="128" idx="2"/>
          </p:cNvCxnSpPr>
          <p:nvPr/>
        </p:nvCxnSpPr>
        <p:spPr>
          <a:xfrm flipV="1">
            <a:off x="8419680" y="4723560"/>
            <a:ext cx="1080" cy="381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7772400" y="388620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OR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Objec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8" idx="0"/>
            <a:endCxn id="121" idx="3"/>
          </p:cNvCxnSpPr>
          <p:nvPr/>
        </p:nvCxnSpPr>
        <p:spPr>
          <a:xfrm flipV="1">
            <a:off x="8419680" y="342864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4346280" y="5257800"/>
            <a:ext cx="115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XML/HTT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OA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What do we need to do?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 WSDL to expose meth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sten for/parse SOAP Reque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l the appropriate CORBA ob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ckage the results in SOAP Respon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ds the results back over HT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bout…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hicago based technology consulting firm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ocused on building Enterprise systems with Microsoft tool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icrosoft Gold Certified Partne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ctive project leader…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ck us out at </a:t>
            </a:r>
            <a:r>
              <a:rPr b="0" lang="en-US" sz="2800" spc="-1" strike="noStrike" u="sng">
                <a:solidFill>
                  <a:srgbClr val="6699ff"/>
                </a:solidFill>
                <a:uFillTx/>
                <a:latin typeface="Tahoma"/>
                <a:hlinkClick r:id="rId2"/>
              </a:rPr>
              <a:t>www.claritycon.c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Demo – WSDL File!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 a VB Stub compon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te the WSDL using the MS SOAP Toolkit WSDL Gener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Demo – SOAP Listener!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ling the SOAP Reque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arsing the Reques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alling the CORBA Objec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turning the dat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son Brothers Overview/Dem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e the prob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ef SOAP Overvi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ding an XML Based Web Serv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ntegrating into our COM+ Compon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The Solution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1905120"/>
            <a:ext cx="7620120" cy="42670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indows2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3400" y="297180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Dat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las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7712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OAPCli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O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819520"/>
            <a:ext cx="1143000" cy="1143000"/>
          </a:xfrm>
          <a:prstGeom prst="can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QL2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3" idx="2"/>
            <a:endCxn id="141" idx="3"/>
          </p:cNvCxnSpPr>
          <p:nvPr/>
        </p:nvCxnSpPr>
        <p:spPr>
          <a:xfrm flipH="1">
            <a:off x="5637960" y="3390480"/>
            <a:ext cx="8391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5" name=""/>
          <p:cNvCxnSpPr>
            <a:stCxn id="146" idx="3"/>
            <a:endCxn id="142" idx="1"/>
          </p:cNvCxnSpPr>
          <p:nvPr/>
        </p:nvCxnSpPr>
        <p:spPr>
          <a:xfrm>
            <a:off x="5638320" y="5143320"/>
            <a:ext cx="8391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8077320" y="4952880"/>
            <a:ext cx="1447560" cy="457200"/>
          </a:xfrm>
          <a:prstGeom prst="leftRightArrow">
            <a:avLst>
              <a:gd name="adj1" fmla="val 50000"/>
              <a:gd name="adj2" fmla="val 6303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OA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HBProdu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33720" y="297180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Busines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las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3200400"/>
            <a:ext cx="1447920" cy="457200"/>
          </a:xfrm>
          <a:prstGeom prst="leftRightArrow">
            <a:avLst>
              <a:gd name="adj1" fmla="val 50000"/>
              <a:gd name="adj2" fmla="val 63045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ASP/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8" idx="3"/>
            <a:endCxn id="141" idx="1"/>
          </p:cNvCxnSpPr>
          <p:nvPr/>
        </p:nvCxnSpPr>
        <p:spPr>
          <a:xfrm>
            <a:off x="3429000" y="3390480"/>
            <a:ext cx="915120" cy="10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1" idx="2"/>
            <a:endCxn id="146" idx="0"/>
          </p:cNvCxnSpPr>
          <p:nvPr/>
        </p:nvCxnSpPr>
        <p:spPr>
          <a:xfrm flipV="1" rot="10800000">
            <a:off x="4990320" y="3809520"/>
            <a:ext cx="1080" cy="9151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HBProduct Component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 Basic COM+ Compon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aps the calls to the CORBA Compon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tilizes the Toolkit SOAPClient proxy object to make the SOAP c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mo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One more issue…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AP (HBProduct) returns X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want ADO Records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o op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oop through the XML DOM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se XSLT to transform the dat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Demo!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forming XML into a Records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What did we accomplish?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grated a COM+ application with existing CORBA appl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tilized an open standards based approa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quired no change to the CORBA compon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Third Party Solution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ONA – iPortal Sui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 u="sng">
                <a:solidFill>
                  <a:srgbClr val="6699ff"/>
                </a:solidFill>
                <a:uFillTx/>
                <a:latin typeface="Tahoma"/>
                <a:hlinkClick r:id="rId2"/>
              </a:rPr>
              <a:t>www.iona.com/products/iphome.htm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gue Wave Software – XML Lin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 u="sng">
                <a:solidFill>
                  <a:srgbClr val="6699ff"/>
                </a:solidFill>
                <a:uFillTx/>
                <a:latin typeface="Tahoma"/>
                <a:hlinkClick r:id="rId3"/>
              </a:rPr>
              <a:t>www.rogueware.com/products/xm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ctSpace – OpenBusi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 u="sng">
                <a:solidFill>
                  <a:srgbClr val="6699ff"/>
                </a:solidFill>
                <a:uFillTx/>
                <a:latin typeface="Tahoma"/>
                <a:hlinkClick r:id="rId4"/>
              </a:rPr>
              <a:t>www.objectspace.com/produc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dditional Resource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crosoft SOAP Toolkit 2.0 RC 0 Rel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100000"/>
              </a:lnSpc>
              <a:spcAft>
                <a:spcPts val="689"/>
              </a:spcAft>
              <a:buClr>
                <a:srgbClr val="ffffff"/>
              </a:buClr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 u="sng">
                <a:solidFill>
                  <a:srgbClr val="6699ff"/>
                </a:solidFill>
                <a:uFillTx/>
                <a:latin typeface="Arial"/>
                <a:ea typeface="Arial"/>
                <a:hlinkClick r:id="rId2"/>
              </a:rPr>
              <a:t>http://msdn.microsoft.com/soap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son Brothers Interop Sam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 u="sng">
                <a:solidFill>
                  <a:srgbClr val="6699ff"/>
                </a:solidFill>
                <a:uFillTx/>
                <a:latin typeface="Tahoma"/>
                <a:hlinkClick r:id="rId3"/>
              </a:rPr>
              <a:t>http://msdn.microsoft.com/xml/	articles/HBInterop.ex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 u="sng">
                <a:solidFill>
                  <a:srgbClr val="6699ff"/>
                </a:solidFill>
                <a:uFillTx/>
                <a:latin typeface="Tahoma"/>
                <a:hlinkClick r:id="rId4"/>
              </a:rPr>
              <a:t>www.claritycon.com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son Brothers Overview/Dem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e the prob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ef SOAP Overvi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ding an XML Based Web Serv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grating into our COM+ Compon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Questions?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0" algn="ctr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0" algn="ctr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0" algn="ctr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0" algn="ctr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y Schmelz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0" algn="ctr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 u="sng">
                <a:solidFill>
                  <a:srgbClr val="6699ff"/>
                </a:solidFill>
                <a:uFillTx/>
                <a:latin typeface="Tahoma"/>
                <a:hlinkClick r:id="rId2"/>
              </a:rPr>
              <a:t>jschmelz@claritycon.c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0" algn="ctr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 u="sng">
                <a:solidFill>
                  <a:srgbClr val="6699ff"/>
                </a:solidFill>
                <a:uFillTx/>
                <a:latin typeface="Tahoma"/>
                <a:hlinkClick r:id="rId3"/>
              </a:rPr>
              <a:t>www.claritycon.c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0" algn="ctr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bout Hanson Brother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mple application available on MSD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 Scena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nline retaile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xpanding into sporting goods via acquisitio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chnical architec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anson Brothers systems follow Windows DNA 2000 design patter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cquired a CORBA Inventory Management System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Demo!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752480" y="1371600"/>
            <a:ext cx="6172200" cy="50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son Brothers Overview/Dem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Define the prob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ef SOAP Overvi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ding an XML Based Web Serv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grating into our COM+ Compon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What is the problem?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ess existing CORBA appl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r to Server connec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apitalize on the investments made in encapsulating business ru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rver environments are heterogeneous in natur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nimize the impact on the existing appl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The Problem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905120"/>
            <a:ext cx="4114800" cy="365760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indows2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1905120"/>
            <a:ext cx="4114800" cy="365760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Unix/Linux/Windows2000/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3809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S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3809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OM+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Objec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2362320"/>
            <a:ext cx="1143000" cy="1066680"/>
          </a:xfrm>
          <a:prstGeom prst="can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QL2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388620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OR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OR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848720" y="2362320"/>
            <a:ext cx="1143000" cy="1066680"/>
          </a:xfrm>
          <a:prstGeom prst="can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Orac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59" idx="3"/>
            <a:endCxn id="60" idx="1"/>
          </p:cNvCxnSpPr>
          <p:nvPr/>
        </p:nvCxnSpPr>
        <p:spPr>
          <a:xfrm>
            <a:off x="1752480" y="4228920"/>
            <a:ext cx="1067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"/>
          <p:cNvCxnSpPr>
            <a:stCxn id="61" idx="3"/>
            <a:endCxn id="60" idx="0"/>
          </p:cNvCxnSpPr>
          <p:nvPr/>
        </p:nvCxnSpPr>
        <p:spPr>
          <a:xfrm>
            <a:off x="3466800" y="3429000"/>
            <a:ext cx="10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6" name=""/>
          <p:cNvCxnSpPr>
            <a:stCxn id="62" idx="3"/>
            <a:endCxn id="67" idx="1"/>
          </p:cNvCxnSpPr>
          <p:nvPr/>
        </p:nvCxnSpPr>
        <p:spPr>
          <a:xfrm>
            <a:off x="7009920" y="4304880"/>
            <a:ext cx="7628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7772400" y="388620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OR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Objec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7" idx="0"/>
            <a:endCxn id="63" idx="3"/>
          </p:cNvCxnSpPr>
          <p:nvPr/>
        </p:nvCxnSpPr>
        <p:spPr>
          <a:xfrm flipV="1">
            <a:off x="8419680" y="342864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4267080" y="4038480"/>
            <a:ext cx="1214640" cy="486000"/>
          </a:xfrm>
          <a:prstGeom prst="leftRightArrow">
            <a:avLst>
              <a:gd name="adj1" fmla="val 50000"/>
              <a:gd name="adj2" fmla="val 4975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??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What are our options?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/CORBA Bridge Produ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ONA, Level8,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rect DB Acc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LE DB, ODBC,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ssage Que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BM MQSeries on non-MS Platfor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SMQ on MS Platfor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SMQ / MQSeries Brid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Web Protoco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A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3T17:07:44Z</dcterms:created>
  <dc:creator>Jay Schmelzer</dc:creator>
  <dc:description>Copyright 2000 Fawcette Technical Publications, all rights reserved.</dc:description>
  <cp:keywords>VCDC VBITS SQL2THEMAX BUILDER</cp:keywords>
  <dc:language>en-US</dc:language>
  <cp:lastModifiedBy>Jay Schmelzer</cp:lastModifiedBy>
  <cp:lastPrinted>1998-07-04T09:05:35Z</cp:lastPrinted>
  <dcterms:modified xsi:type="dcterms:W3CDTF">2001-04-26T14:28:25Z</dcterms:modified>
  <cp:revision>44</cp:revision>
  <dc:subject>Fawcette Technical Publications Conferences</dc:subject>
  <dc:title>My talk at a Fawcette conference XXXXX VSLIVE TEMPLATE XXXX</dc:title>
</cp:coreProperties>
</file>