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4208040" y="638280"/>
            <a:ext cx="2397240" cy="18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814C120-A8BE-4A0E-BE73-1F4D71FC1B8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4560"/>
            <a:ext cx="6858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msdn.microsof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3920" y="225360"/>
            <a:ext cx="934920" cy="43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60840" y="225360"/>
            <a:ext cx="13971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T1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3920" y="8589960"/>
            <a:ext cx="1525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Logo 95"/>
                <a:ea typeface="Microsoft Logo 95"/>
              </a:rPr>
              <a:t>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F57D3B0-9F68-4B97-8514-06CBE654505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8E78A31-8C59-4951-AF7E-0392BB38F2F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219CAD-C712-490A-AB31-66F7A5CFC85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BB807F2-1C5E-4F25-8485-A0BA4BF3904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C6B5DED-ACFB-496E-99CA-5427E46C1FD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C517D6E-5597-4A2A-86C0-9B24BEEBEBA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E61B765-FC85-41BD-B205-94219FBDDAE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D179592-B905-4881-8600-74C08EC1CC4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82D3DB9-C085-42B3-A26F-24C68917C60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7463B2A-B126-4E50-8EAA-8E2E72022B2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8950320"/>
            <a:ext cx="6858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E94C057-45D0-45F0-90D2-E878634D11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4199040" y="638280"/>
            <a:ext cx="2415960" cy="18129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3920" y="2581200"/>
            <a:ext cx="6433920" cy="59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1360" y="2865960"/>
            <a:ext cx="895824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1360" y="286596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61720" y="286596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00400" y="157140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29080" y="157140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1360" y="286596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00400" y="286596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29080" y="2865960"/>
            <a:ext cx="288432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1360" y="1571400"/>
            <a:ext cx="8958240" cy="24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5920" y="115560"/>
            <a:ext cx="895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1360" y="286596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61720" y="286596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1720" y="1571400"/>
            <a:ext cx="437148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1360" y="2865960"/>
            <a:ext cx="8958240" cy="11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360" y="1571400"/>
            <a:ext cx="89582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33360" indent="-33336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37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2320" indent="-259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03400" indent="-2696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18760" indent="-2480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18760" indent="-2480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18760" indent="-2480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rausch@claritycon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sdn.microsoft.com/webservices" TargetMode="External"/><Relationship Id="rId3" Type="http://schemas.openxmlformats.org/officeDocument/2006/relationships/hyperlink" Target="http://msdn.microsoft.com/webservices" TargetMode="External"/><Relationship Id="rId4" Type="http://schemas.openxmlformats.org/officeDocument/2006/relationships/hyperlink" Target="http://www.gotdotnet.com/team" TargetMode="External"/><Relationship Id="rId5" Type="http://schemas.openxmlformats.org/officeDocument/2006/relationships/hyperlink" Target="http://www.gotdotnet.com/team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snetevents.com/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snetevents.com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2880" y="4021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796b"/>
                </a:solidFill>
                <a:latin typeface="Arial"/>
              </a:rPr>
              <a:t>Advanced Web Services Using ASP 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5760" y="205056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Jon Rauschenber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rector of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larity Consulting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icrosoft Gold Certified Part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b796b"/>
                </a:solidFill>
                <a:uFillTx/>
                <a:latin typeface="Arial"/>
                <a:hlinkClick r:id="rId2"/>
              </a:rPr>
              <a:t>jrausch@claritycon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nthony Tsim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rogram 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icrosoft Corpo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2280" y="1335240"/>
            <a:ext cx="80218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Services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Wire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AP He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20880" y="2193840"/>
            <a:ext cx="7989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:Envelope ...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GetAuthors ...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Cookie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Value&gt;string&lt;/Valu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Cookie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Table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Value&gt;string&lt;/Valu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Table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GetAuthor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:Envelo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76360" y="1405080"/>
            <a:ext cx="8105760" cy="5232240"/>
            <a:chOff x="576360" y="1405080"/>
            <a:chExt cx="8105760" cy="5232240"/>
          </a:xfrm>
        </p:grpSpPr>
        <p:sp>
          <p:nvSpPr>
            <p:cNvPr id="118" name=""/>
            <p:cNvSpPr/>
            <p:nvPr/>
          </p:nvSpPr>
          <p:spPr>
            <a:xfrm>
              <a:off x="576360" y="1405080"/>
              <a:ext cx="8105760" cy="5232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6360" y="1416600"/>
              <a:ext cx="8093520" cy="54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796b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223ae"/>
                  </a:solidFill>
                  <a:latin typeface="Arial"/>
                </a:rPr>
                <a:t>SOAP Messag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38120" y="3087720"/>
            <a:ext cx="3902040" cy="12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OAP Headers</a:t>
            </a:r>
            <a:br>
              <a:rPr sz="40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7960" y="1741320"/>
            <a:ext cx="8636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soap:Envelope ...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soap:Header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SoapCookieId ...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Value&gt;string&lt;/Value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/SoapCookieId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/soap:Header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soap:Body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GetAuthors ... 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TableName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Value&gt;string&lt;/Value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/TableName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/GetAuthors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/soap:Body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&lt;/soap:Envelope&gt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8440" y="1149480"/>
            <a:ext cx="8763120" cy="5708520"/>
            <a:chOff x="298440" y="1149480"/>
            <a:chExt cx="8763120" cy="5708520"/>
          </a:xfrm>
        </p:grpSpPr>
        <p:sp>
          <p:nvSpPr>
            <p:cNvPr id="124" name=""/>
            <p:cNvSpPr/>
            <p:nvPr/>
          </p:nvSpPr>
          <p:spPr>
            <a:xfrm>
              <a:off x="298440" y="1149480"/>
              <a:ext cx="8763120" cy="57085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440" y="1161720"/>
              <a:ext cx="8750160" cy="596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796b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223ae"/>
                  </a:solidFill>
                  <a:latin typeface="Arial"/>
                </a:rPr>
                <a:t>SOAP Messag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8440" y="2401920"/>
            <a:ext cx="35416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5760" y="-3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OAP Headers</a:t>
            </a:r>
            <a:br>
              <a:rPr sz="40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Usag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SOAP Headers </a:t>
            </a:r>
            <a:br>
              <a:rPr sz="44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Detail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2280" y="1469880"/>
            <a:ext cx="802188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 for out of band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ilar to HTTP He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ion con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A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herit from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apHea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apHeaderAttribu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resented in WSD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s SOAP Hea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xy generation is automa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095560" y="1228680"/>
          <a:ext cx="495288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560" y="1228680"/>
                    <a:ext cx="49528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1914480"/>
            <a:ext cx="82994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00"/>
                </a:solidFill>
                <a:latin typeface="Arial"/>
              </a:rPr>
              <a:t>Demonstration 2</a:t>
            </a:r>
            <a:br>
              <a:rPr sz="5400"/>
            </a:b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Using SOAP Headers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2280" y="1335240"/>
            <a:ext cx="80218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Services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Wire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He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3640" y="2617920"/>
            <a:ext cx="1752840" cy="712800"/>
          </a:xfrm>
          <a:prstGeom prst="rect">
            <a:avLst/>
          </a:prstGeom>
          <a:gradFill rotWithShape="0">
            <a:gsLst>
              <a:gs pos="0">
                <a:srgbClr val="001050"/>
              </a:gs>
              <a:gs pos="50000">
                <a:srgbClr val="0223ae"/>
              </a:gs>
              <a:gs pos="100000">
                <a:srgbClr val="001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334120" y="2603520"/>
            <a:ext cx="2640960" cy="690480"/>
            <a:chOff x="5334120" y="2603520"/>
            <a:chExt cx="2640960" cy="690480"/>
          </a:xfrm>
        </p:grpSpPr>
        <p:sp>
          <p:nvSpPr>
            <p:cNvPr id="137" name=""/>
            <p:cNvSpPr/>
            <p:nvPr/>
          </p:nvSpPr>
          <p:spPr>
            <a:xfrm>
              <a:off x="6310800" y="2603520"/>
              <a:ext cx="1664280" cy="690480"/>
            </a:xfrm>
            <a:prstGeom prst="rect">
              <a:avLst/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34120" y="2930760"/>
              <a:ext cx="981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39840" y="2154240"/>
            <a:ext cx="7826400" cy="1542960"/>
          </a:xfrm>
          <a:prstGeom prst="rect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3960" y="172404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AP over HTTP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573280" y="2606760"/>
            <a:ext cx="2543040" cy="712800"/>
            <a:chOff x="2573280" y="2606760"/>
            <a:chExt cx="2543040" cy="712800"/>
          </a:xfrm>
        </p:grpSpPr>
        <p:sp>
          <p:nvSpPr>
            <p:cNvPr id="142" name=""/>
            <p:cNvSpPr/>
            <p:nvPr/>
          </p:nvSpPr>
          <p:spPr>
            <a:xfrm>
              <a:off x="2573280" y="2958120"/>
              <a:ext cx="840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34400" y="2606760"/>
              <a:ext cx="1681920" cy="712800"/>
            </a:xfrm>
            <a:prstGeom prst="rect">
              <a:avLst/>
            </a:prstGeom>
            <a:gradFill rotWithShape="0">
              <a:gsLst>
                <a:gs pos="0">
                  <a:srgbClr val="733731"/>
                </a:gs>
                <a:gs pos="50000">
                  <a:srgbClr val="fb796b"/>
                </a:gs>
                <a:gs pos="100000">
                  <a:srgbClr val="7337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TT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76440" y="4848120"/>
            <a:ext cx="4859280" cy="1743120"/>
          </a:xfrm>
          <a:prstGeom prst="rect">
            <a:avLst/>
          </a:prstGeom>
          <a:gradFill rotWithShape="0">
            <a:gsLst>
              <a:gs pos="0">
                <a:srgbClr val="001050"/>
              </a:gs>
              <a:gs pos="50000">
                <a:srgbClr val="0223ae"/>
              </a:gs>
              <a:gs pos="100000">
                <a:srgbClr val="001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4081320"/>
            <a:ext cx="4881240" cy="424080"/>
          </a:xfrm>
          <a:prstGeom prst="rect">
            <a:avLst/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 Hea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0480" y="5280120"/>
            <a:ext cx="4881600" cy="1323720"/>
          </a:xfrm>
          <a:prstGeom prst="rect">
            <a:avLst/>
          </a:prstGeom>
          <a:gradFill rotWithShape="0">
            <a:gsLst>
              <a:gs pos="0">
                <a:srgbClr val="725a03"/>
              </a:gs>
              <a:gs pos="50000">
                <a:srgbClr val="f8c508"/>
              </a:gs>
              <a:gs pos="100000">
                <a:srgbClr val="725a0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1120" y="5275440"/>
            <a:ext cx="4887720" cy="1320480"/>
          </a:xfrm>
          <a:prstGeom prst="rect">
            <a:avLst/>
          </a:prstGeom>
          <a:gradFill rotWithShape="0">
            <a:gsLst>
              <a:gs pos="0">
                <a:srgbClr val="001050"/>
              </a:gs>
              <a:gs pos="50000">
                <a:srgbClr val="0223ae"/>
              </a:gs>
              <a:gs pos="100000">
                <a:srgbClr val="001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695920"/>
            <a:ext cx="4881240" cy="903240"/>
          </a:xfrm>
          <a:prstGeom prst="rect">
            <a:avLst/>
          </a:prstGeom>
          <a:gradFill rotWithShape="0">
            <a:gsLst>
              <a:gs pos="0">
                <a:srgbClr val="733731"/>
              </a:gs>
              <a:gs pos="50000">
                <a:srgbClr val="fb796b"/>
              </a:gs>
              <a:gs pos="100000">
                <a:srgbClr val="7337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6440" y="4851360"/>
            <a:ext cx="4881240" cy="42408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Hea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66720" y="4040280"/>
            <a:ext cx="4894200" cy="2574360"/>
            <a:chOff x="666720" y="4040280"/>
            <a:chExt cx="4894200" cy="2574360"/>
          </a:xfrm>
        </p:grpSpPr>
        <p:sp>
          <p:nvSpPr>
            <p:cNvPr id="151" name=""/>
            <p:cNvSpPr/>
            <p:nvPr/>
          </p:nvSpPr>
          <p:spPr>
            <a:xfrm>
              <a:off x="3104280" y="4040280"/>
              <a:ext cx="1382040" cy="781920"/>
            </a:xfrm>
            <a:custGeom>
              <a:avLst/>
              <a:gdLst/>
              <a:ahLst/>
              <a:rect l="l" t="t" r="r" b="b"/>
              <a:pathLst>
                <a:path w="947" h="777">
                  <a:moveTo>
                    <a:pt x="831" y="0"/>
                  </a:moveTo>
                  <a:cubicBezTo>
                    <a:pt x="889" y="156"/>
                    <a:pt x="947" y="312"/>
                    <a:pt x="831" y="402"/>
                  </a:cubicBezTo>
                  <a:cubicBezTo>
                    <a:pt x="715" y="492"/>
                    <a:pt x="274" y="478"/>
                    <a:pt x="137" y="540"/>
                  </a:cubicBezTo>
                  <a:cubicBezTo>
                    <a:pt x="0" y="602"/>
                    <a:pt x="23" y="741"/>
                    <a:pt x="9" y="777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720" y="4839480"/>
              <a:ext cx="4894200" cy="17751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058080" y="4581360"/>
            <a:ext cx="278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thentication is part of the protocol, either HTTP or SO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Authentication </a:t>
            </a:r>
            <a:br>
              <a:rPr sz="4400"/>
            </a:br>
            <a:r>
              <a:rPr b="1" lang="en-US" sz="4000" spc="-1" strike="noStrike">
                <a:solidFill>
                  <a:srgbClr val="fb796b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Authentication</a:t>
            </a: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Using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SOAP Header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2280" y="1626840"/>
            <a:ext cx="802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ign identity to a requ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permissions does the caller h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the identity allowed/den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efined by SOAP spec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.NET Authentication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  <a:ea typeface="PMingLiU"/>
              </a:rPr>
              <a:t>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port / Html Forms (HTTP Cooki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stom, i.e. roll your 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Authentication</a:t>
            </a:r>
            <a:br>
              <a:rPr sz="36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Using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SOAP Header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2280" y="1526760"/>
            <a:ext cx="802188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is transport independ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hentication uses HTTP He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ouple from transport protoc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He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 of SOAP mes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dentials are transport independ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s with ASP.NET easi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 ev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P.NET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s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trins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095560" y="1228680"/>
          <a:ext cx="495288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560" y="1228680"/>
                    <a:ext cx="49528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1914480"/>
            <a:ext cx="82994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00"/>
                </a:solidFill>
                <a:latin typeface="Arial"/>
              </a:rPr>
              <a:t>Demonstration 3</a:t>
            </a:r>
            <a:br>
              <a:rPr sz="5400"/>
            </a:b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Authentication with </a:t>
            </a:r>
            <a:br>
              <a:rPr sz="4800"/>
            </a:b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SOAP Headers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What we will cover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360" y="1378080"/>
            <a:ext cx="845676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ASP .NET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SOAP He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Web Servic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SOAP Extension 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2280" y="1335240"/>
            <a:ext cx="80218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Services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een Scra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Wire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He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OAP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43040" y="1806480"/>
            <a:ext cx="1904760" cy="1028880"/>
          </a:xfrm>
          <a:prstGeom prst="rect">
            <a:avLst/>
          </a:prstGeom>
          <a:gradFill rotWithShape="0">
            <a:gsLst>
              <a:gs pos="0">
                <a:srgbClr val="001050"/>
              </a:gs>
              <a:gs pos="50000">
                <a:srgbClr val="0223ae"/>
              </a:gs>
              <a:gs pos="100000">
                <a:srgbClr val="001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s/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4440" y="1141560"/>
            <a:ext cx="7953120" cy="2006280"/>
            <a:chOff x="514440" y="1141560"/>
            <a:chExt cx="7953120" cy="2006280"/>
          </a:xfrm>
        </p:grpSpPr>
        <p:sp>
          <p:nvSpPr>
            <p:cNvPr id="166" name=""/>
            <p:cNvSpPr/>
            <p:nvPr/>
          </p:nvSpPr>
          <p:spPr>
            <a:xfrm>
              <a:off x="514440" y="1141560"/>
              <a:ext cx="7953120" cy="20062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130356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652840" y="1923120"/>
              <a:ext cx="2759040" cy="1017360"/>
              <a:chOff x="2652840" y="1923120"/>
              <a:chExt cx="2759040" cy="1017360"/>
            </a:xfrm>
          </p:grpSpPr>
          <p:sp>
            <p:nvSpPr>
              <p:cNvPr id="169" name=""/>
              <p:cNvSpPr/>
              <p:nvPr/>
            </p:nvSpPr>
            <p:spPr>
              <a:xfrm>
                <a:off x="3506760" y="1923120"/>
                <a:ext cx="1905120" cy="1017360"/>
              </a:xfrm>
              <a:prstGeom prst="rect">
                <a:avLst/>
              </a:prstGeom>
              <a:gradFill rotWithShape="0">
                <a:gsLst>
                  <a:gs pos="0">
                    <a:srgbClr val="001050"/>
                  </a:gs>
                  <a:gs pos="50000">
                    <a:srgbClr val="0223ae"/>
                  </a:gs>
                  <a:gs pos="100000">
                    <a:srgbClr val="001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erializ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52840" y="2432880"/>
                <a:ext cx="857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2160" y="1926000"/>
                <a:ext cx="1704960" cy="676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2" name=""/>
          <p:cNvGrpSpPr/>
          <p:nvPr/>
        </p:nvGrpSpPr>
        <p:grpSpPr>
          <a:xfrm>
            <a:off x="5418000" y="1805040"/>
            <a:ext cx="2697120" cy="1019160"/>
            <a:chOff x="5418000" y="1805040"/>
            <a:chExt cx="2697120" cy="1019160"/>
          </a:xfrm>
        </p:grpSpPr>
        <p:sp>
          <p:nvSpPr>
            <p:cNvPr id="173" name=""/>
            <p:cNvSpPr/>
            <p:nvPr/>
          </p:nvSpPr>
          <p:spPr>
            <a:xfrm>
              <a:off x="6286320" y="1805040"/>
              <a:ext cx="1828800" cy="1019160"/>
            </a:xfrm>
            <a:prstGeom prst="rect">
              <a:avLst/>
            </a:prstGeom>
            <a:gradFill rotWithShape="0">
              <a:gsLst>
                <a:gs pos="0">
                  <a:srgbClr val="733731"/>
                </a:gs>
                <a:gs pos="50000">
                  <a:srgbClr val="fb796b"/>
                </a:gs>
                <a:gs pos="100000">
                  <a:srgbClr val="7337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8000" y="2327400"/>
              <a:ext cx="857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19120" y="4241880"/>
            <a:ext cx="7953480" cy="2216160"/>
            <a:chOff x="519120" y="4241880"/>
            <a:chExt cx="7953480" cy="2216160"/>
          </a:xfrm>
        </p:grpSpPr>
        <p:sp>
          <p:nvSpPr>
            <p:cNvPr id="176" name=""/>
            <p:cNvSpPr/>
            <p:nvPr/>
          </p:nvSpPr>
          <p:spPr>
            <a:xfrm>
              <a:off x="519120" y="4241880"/>
              <a:ext cx="7953480" cy="22161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73200" y="4406760"/>
              <a:ext cx="233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2657520" y="5091120"/>
              <a:ext cx="2759040" cy="1123920"/>
              <a:chOff x="2657520" y="5091120"/>
              <a:chExt cx="2759040" cy="1123920"/>
            </a:xfrm>
          </p:grpSpPr>
          <p:sp>
            <p:nvSpPr>
              <p:cNvPr id="179" name=""/>
              <p:cNvSpPr/>
              <p:nvPr/>
            </p:nvSpPr>
            <p:spPr>
              <a:xfrm>
                <a:off x="3511440" y="5091120"/>
                <a:ext cx="1905120" cy="1123920"/>
              </a:xfrm>
              <a:prstGeom prst="rect">
                <a:avLst/>
              </a:prstGeom>
              <a:gradFill rotWithShape="0">
                <a:gsLst>
                  <a:gs pos="0">
                    <a:srgbClr val="001050"/>
                  </a:gs>
                  <a:gs pos="50000">
                    <a:srgbClr val="0223ae"/>
                  </a:gs>
                  <a:gs pos="100000">
                    <a:srgbClr val="001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erializ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57520" y="5654520"/>
                <a:ext cx="8571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6840" y="5094360"/>
                <a:ext cx="1704960" cy="747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2" name=""/>
          <p:cNvGrpSpPr/>
          <p:nvPr/>
        </p:nvGrpSpPr>
        <p:grpSpPr>
          <a:xfrm>
            <a:off x="5413320" y="5178600"/>
            <a:ext cx="2760840" cy="1123920"/>
            <a:chOff x="5413320" y="5178600"/>
            <a:chExt cx="2760840" cy="1123920"/>
          </a:xfrm>
        </p:grpSpPr>
        <p:sp>
          <p:nvSpPr>
            <p:cNvPr id="183" name=""/>
            <p:cNvSpPr/>
            <p:nvPr/>
          </p:nvSpPr>
          <p:spPr>
            <a:xfrm>
              <a:off x="6269040" y="5178600"/>
              <a:ext cx="1905120" cy="1123920"/>
            </a:xfrm>
            <a:prstGeom prst="rect">
              <a:avLst/>
            </a:prstGeom>
            <a:gradFill rotWithShape="0">
              <a:gsLst>
                <a:gs pos="0">
                  <a:srgbClr val="001050"/>
                </a:gs>
                <a:gs pos="50000">
                  <a:srgbClr val="0223ae"/>
                </a:gs>
                <a:gs pos="100000">
                  <a:srgbClr val="001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/Typ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3320" y="5743800"/>
              <a:ext cx="857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39640" y="3147840"/>
            <a:ext cx="7893000" cy="1093680"/>
            <a:chOff x="539640" y="3147840"/>
            <a:chExt cx="7893000" cy="1093680"/>
          </a:xfrm>
        </p:grpSpPr>
        <p:sp>
          <p:nvSpPr>
            <p:cNvPr id="186" name=""/>
            <p:cNvSpPr/>
            <p:nvPr/>
          </p:nvSpPr>
          <p:spPr>
            <a:xfrm>
              <a:off x="539640" y="3166920"/>
              <a:ext cx="7893000" cy="1074600"/>
            </a:xfrm>
            <a:prstGeom prst="rect">
              <a:avLst/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73200" y="3147840"/>
              <a:ext cx="413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OAP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08200" y="2798640"/>
            <a:ext cx="6516000" cy="3519360"/>
            <a:chOff x="808200" y="2798640"/>
            <a:chExt cx="6516000" cy="3519360"/>
          </a:xfrm>
        </p:grpSpPr>
        <p:sp>
          <p:nvSpPr>
            <p:cNvPr id="189" name=""/>
            <p:cNvSpPr/>
            <p:nvPr/>
          </p:nvSpPr>
          <p:spPr>
            <a:xfrm>
              <a:off x="808200" y="5194080"/>
              <a:ext cx="1828440" cy="1123920"/>
            </a:xfrm>
            <a:prstGeom prst="rect">
              <a:avLst/>
            </a:prstGeom>
            <a:gradFill rotWithShape="0">
              <a:gsLst>
                <a:gs pos="0">
                  <a:srgbClr val="733731"/>
                </a:gs>
                <a:gs pos="50000">
                  <a:srgbClr val="fb796b"/>
                </a:gs>
                <a:gs pos="100000">
                  <a:srgbClr val="7337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0320" y="2798640"/>
              <a:ext cx="5663880" cy="2379600"/>
            </a:xfrm>
            <a:custGeom>
              <a:avLst/>
              <a:gdLst/>
              <a:ahLst/>
              <a:rect l="l" t="t" r="r" b="b"/>
              <a:pathLst>
                <a:path w="3568" h="1499">
                  <a:moveTo>
                    <a:pt x="3465" y="0"/>
                  </a:moveTo>
                  <a:cubicBezTo>
                    <a:pt x="3516" y="205"/>
                    <a:pt x="3568" y="410"/>
                    <a:pt x="3292" y="512"/>
                  </a:cubicBezTo>
                  <a:cubicBezTo>
                    <a:pt x="3016" y="614"/>
                    <a:pt x="2289" y="595"/>
                    <a:pt x="1811" y="613"/>
                  </a:cubicBezTo>
                  <a:cubicBezTo>
                    <a:pt x="1333" y="631"/>
                    <a:pt x="723" y="474"/>
                    <a:pt x="421" y="622"/>
                  </a:cubicBezTo>
                  <a:cubicBezTo>
                    <a:pt x="119" y="770"/>
                    <a:pt x="56" y="1374"/>
                    <a:pt x="0" y="1499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685960" y="1870200"/>
            <a:ext cx="3454560" cy="4559760"/>
            <a:chOff x="2685960" y="1870200"/>
            <a:chExt cx="3454560" cy="4559760"/>
          </a:xfrm>
        </p:grpSpPr>
        <p:sp>
          <p:nvSpPr>
            <p:cNvPr id="192" name=""/>
            <p:cNvSpPr/>
            <p:nvPr/>
          </p:nvSpPr>
          <p:spPr>
            <a:xfrm>
              <a:off x="2690640" y="1870200"/>
              <a:ext cx="741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8920" y="1877760"/>
              <a:ext cx="741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85960" y="5322600"/>
              <a:ext cx="741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94240" y="5330520"/>
              <a:ext cx="741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0"/>
            <a:ext cx="895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OAP Extensions </a:t>
            </a:r>
            <a:br>
              <a:rPr sz="40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Serial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OAP Extensions </a:t>
            </a:r>
            <a:br>
              <a:rPr sz="40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Framework Classe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1840" y="1458720"/>
            <a:ext cx="80218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Extension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.Web.Services.Protocols Namesp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 Class to inherit from for custom attribu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Message method called at each stage of serialization and deserialization of the SOAP mes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57280" indent="-44136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928880" indent="-46980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Serialize, AfterSerialize,  BeforeDeserialize, AfterDeserializ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OAP Extensions </a:t>
            </a:r>
            <a:br>
              <a:rPr sz="40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Process Message Exampl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1360" y="1571400"/>
            <a:ext cx="89582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ublic Overrides Sub ProcessMessage(message As SoapMessag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lect Case message.St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SoapMessageStage.BeforeSeriali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SoapMessageStage.AfterSeriali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riteOutput(messag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SoapMessageStage.BeforeDeseriali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riteInput(messag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SoapMessageStage.AfterDeseriali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El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ow New Exception("invalid stage"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2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Su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OAP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Extensions</a:t>
            </a:r>
            <a:br>
              <a:rPr sz="36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Encryption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2280" y="1267920"/>
            <a:ext cx="80218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crypt Soap Mess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er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eforeSeriali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umer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eforeDeseriali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ilar to header authent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 independ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te valid SOAP mess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oapExtens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ncyrptionExten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tribu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knowledge of encryption requi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095560" y="1228680"/>
          <a:ext cx="495288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560" y="1228680"/>
                    <a:ext cx="49528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1914480"/>
            <a:ext cx="82994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00"/>
                </a:solidFill>
                <a:latin typeface="Arial"/>
              </a:rPr>
              <a:t>Demonstration 4</a:t>
            </a:r>
            <a:br>
              <a:rPr sz="5400"/>
            </a:b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SOAP Extensions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Summary 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2280" y="1255320"/>
            <a:ext cx="802188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.NET Web Service are ea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ced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stions: jrausch@claritycon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For More Information…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49636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SDN Web site a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796b"/>
                </a:solidFill>
                <a:uFillTx/>
                <a:latin typeface="Arial"/>
              </a:rPr>
              <a:t>msdn.microsof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796b"/>
                </a:solidFill>
                <a:uFillTx/>
                <a:latin typeface="Arial"/>
                <a:hlinkClick r:id="rId2"/>
              </a:rPr>
              <a:t>Msdn.microsoft.com/</a:t>
            </a:r>
            <a:r>
              <a:rPr b="1" lang="en-US" sz="2800" spc="-1" strike="noStrike" u="sng">
                <a:solidFill>
                  <a:srgbClr val="fb796b"/>
                </a:solidFill>
                <a:uFillTx/>
                <a:latin typeface="Arial"/>
                <a:hlinkClick r:id="rId3"/>
              </a:rPr>
              <a:t>web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S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b796b"/>
                </a:solidFill>
                <a:uFillTx/>
                <a:latin typeface="Arial"/>
                <a:hlinkClick r:id="rId4"/>
              </a:rPr>
              <a:t>www.gotdotnet.com</a:t>
            </a:r>
            <a:r>
              <a:rPr b="1" lang="en-US" sz="2800" spc="-1" strike="noStrike" u="sng">
                <a:solidFill>
                  <a:srgbClr val="fb796b"/>
                </a:solidFill>
                <a:uFillTx/>
                <a:latin typeface="Arial"/>
                <a:hlinkClick r:id="rId5"/>
              </a:rPr>
              <a:t>/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76132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MS Press</a:t>
            </a:r>
            <a:br>
              <a:rPr sz="4800"/>
            </a:br>
            <a:r>
              <a:rPr b="1" lang="en-US" sz="3500" spc="-1" strike="noStrike">
                <a:solidFill>
                  <a:srgbClr val="fb796b"/>
                </a:solidFill>
                <a:latin typeface="Arial"/>
              </a:rPr>
              <a:t>Essential Resources for Developers</a:t>
            </a:r>
            <a:endParaRPr b="1" lang="en-US" sz="35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038480"/>
            <a:ext cx="914400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out other titles from MS Press books 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</a:rPr>
              <a:t>www.microsoft.com/ms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from Windows 2000, SQL Server 2000, Exchange 2000, Office 2000, .NET Framework, C#, VB.NET, ASP.NET, and XM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217188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88620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560088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7315200" y="1523880"/>
            <a:ext cx="1539720" cy="190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2133720" y="1533600"/>
            <a:ext cx="1584360" cy="1906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3876840" y="1533600"/>
            <a:ext cx="1562040" cy="1915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5576760" y="1533600"/>
            <a:ext cx="1609920" cy="1919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461880" y="1542960"/>
            <a:ext cx="1509840" cy="1906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1"/>
          <a:stretch/>
        </p:blipFill>
        <p:spPr>
          <a:xfrm>
            <a:off x="7315200" y="1542960"/>
            <a:ext cx="15397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76132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Training</a:t>
            </a:r>
            <a:br>
              <a:rPr sz="4800"/>
            </a:br>
            <a:r>
              <a:rPr b="1" lang="en-US" sz="3500" spc="-1" strike="noStrike">
                <a:solidFill>
                  <a:srgbClr val="fb796b"/>
                </a:solidFill>
                <a:latin typeface="Arial"/>
              </a:rPr>
              <a:t>Training Resources for IT Professionals</a:t>
            </a:r>
            <a:endParaRPr b="1" lang="en-US" sz="35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1571760"/>
            <a:ext cx="864684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ing Web Services using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 Studio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#252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9840" indent="-40320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ailable: Nov 200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191120"/>
            <a:ext cx="82296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locate a training provider for this course, please ac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c508"/>
                </a:solidFill>
                <a:latin typeface="Arial"/>
              </a:rPr>
              <a:t>mcspreferral.microsoft.com/default.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ertified Technical Education Centers (CTEC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Microsoft’s premier partners for training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Session Prerequisites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1360" y="1571760"/>
            <a:ext cx="895824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Web Application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Visual Basic</a:t>
            </a:r>
            <a:r>
              <a:rPr b="1" lang="en-GB" sz="3200" spc="-1" strike="noStrike" baseline="30000">
                <a:solidFill>
                  <a:srgbClr val="ffffff"/>
                </a:solidFill>
                <a:latin typeface="Arial"/>
                <a:ea typeface="PMingLiU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, Visual C#, ASP Program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PMingLiU"/>
              </a:rPr>
              <a:t>.NET Framework and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4120" y="5072040"/>
            <a:ext cx="24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c508"/>
                </a:solidFill>
                <a:latin typeface="Arial"/>
              </a:rPr>
              <a:t>Level 2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57360" y="3548160"/>
            <a:ext cx="196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ing &amp;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89280" y="354816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DN Training, Tech-Ed, PDC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er Days, MSDN/Onsite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MSDN</a:t>
            </a:r>
            <a:br>
              <a:rPr sz="48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Essential Resources for Developer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7360" y="161136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cription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7360" y="249696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in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7360" y="55944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bershi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7360" y="4578480"/>
            <a:ext cx="179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t Pub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89280" y="1611360"/>
            <a:ext cx="51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brary, Professional, Univer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ivered via CD-ROM, DVD, W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89280" y="2496960"/>
            <a:ext cx="47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DN Online, MSDN Flas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89280" y="5594400"/>
            <a:ext cx="53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DN User Grou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89280" y="4578480"/>
            <a:ext cx="47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SDN Magaz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SDN N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1120" y="5402160"/>
            <a:ext cx="7772400" cy="0"/>
          </a:xfrm>
          <a:prstGeom prst="line">
            <a:avLst/>
          </a:prstGeom>
          <a:ln w="12600">
            <a:solidFill>
              <a:srgbClr val="f8c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1120" y="4383000"/>
            <a:ext cx="7772400" cy="0"/>
          </a:xfrm>
          <a:prstGeom prst="line">
            <a:avLst/>
          </a:prstGeom>
          <a:ln w="12600">
            <a:solidFill>
              <a:srgbClr val="f8c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1120" y="3319560"/>
            <a:ext cx="7772400" cy="0"/>
          </a:xfrm>
          <a:prstGeom prst="line">
            <a:avLst/>
          </a:prstGeom>
          <a:ln w="12600">
            <a:solidFill>
              <a:srgbClr val="f8c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1120" y="2325600"/>
            <a:ext cx="7772400" cy="0"/>
          </a:xfrm>
          <a:prstGeom prst="line">
            <a:avLst/>
          </a:prstGeom>
          <a:ln w="12600">
            <a:solidFill>
              <a:srgbClr val="f8c5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068640" y="1477440"/>
            <a:ext cx="0" cy="514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480" y="432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Where Can I Get MSDN?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71440" y="1092240"/>
            <a:ext cx="88725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t MSDN Online at</a:t>
            </a:r>
            <a:br>
              <a:rPr sz="3200"/>
            </a:br>
            <a:r>
              <a:rPr b="1" lang="en-US" sz="3200" spc="-1" strike="noStrike" u="sng">
                <a:solidFill>
                  <a:srgbClr val="fb796b"/>
                </a:solidFill>
                <a:uFillTx/>
                <a:latin typeface="Arial"/>
              </a:rPr>
              <a:t>msdn.microsoft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3680" indent="-5536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ster for the MSDN Flash Email Newsletter a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0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796b"/>
                </a:solidFill>
                <a:uFillTx/>
                <a:latin typeface="Arial"/>
              </a:rPr>
              <a:t>msdn.microsoft.com/flas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3680" indent="-5536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ome an MSDN CD Subscriber at </a:t>
            </a:r>
            <a:r>
              <a:rPr b="1" lang="en-US" sz="3200" spc="-1" strike="noStrike" u="sng">
                <a:solidFill>
                  <a:srgbClr val="fb796b"/>
                </a:solidFill>
                <a:uFillTx/>
                <a:latin typeface="Arial"/>
              </a:rPr>
              <a:t>msdn.microsoft.com/subscri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3680" indent="-5536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SDN online semin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0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796b"/>
                </a:solidFill>
                <a:uFillTx/>
                <a:latin typeface="Arial"/>
              </a:rPr>
              <a:t>msdn.microsoft.com/training/semina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3680" indent="-5536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end More MSDN Ev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2680" y="228600"/>
            <a:ext cx="85327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Become A Microsoft Certified Solution Developer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816200"/>
            <a:ext cx="853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MCS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87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mium certification for professionals who design and develop custom business 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I attain MCSD Certific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87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requires passing four exams to prove competency with Microsoft solution architecture, desktop applications, distributed application development, and development to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Do I Get More Informatio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2480" indent="-387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more information about certification requirements, exams, and training options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it </a:t>
            </a:r>
            <a:r>
              <a:rPr b="1" lang="en-US" sz="2400" spc="-1" strike="noStrike" u="sng">
                <a:solidFill>
                  <a:srgbClr val="fb796b"/>
                </a:solidFill>
                <a:uFillTx/>
                <a:latin typeface="Arial"/>
              </a:rPr>
              <a:t>www.microsoft.com/mc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781680" y="6026040"/>
            <a:ext cx="228600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Get Up to Speed on .NET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d a VS .NET Launch ev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in Bill Gates in San Francisco, 02/13/0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end a launch event in a city near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and advanced tracks to meet the needs of all developer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ory: VS .NET Overview, Overview of the .NET Framework, VS .NET Language Re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: Upgrading VB 6.0 applications to VB .NET, Integration with COM+, Architect Enterprise Systems with 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er to attend at </a:t>
            </a:r>
            <a:r>
              <a:rPr b="0" lang="en-US" sz="2800" spc="-1" strike="noStrike" u="sng">
                <a:solidFill>
                  <a:srgbClr val="fb796b"/>
                </a:solidFill>
                <a:uFillTx/>
                <a:latin typeface="Arial"/>
                <a:hlinkClick r:id="rId2"/>
              </a:rPr>
              <a:t>www.vsnetevents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Get Up to Speed on .NET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d a VS .NET Launch Ev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Join Bill Gates in San Francisco, 02/13/02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ttend a launch event in a city near you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ory and advanced track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gister to attend at </a:t>
            </a:r>
            <a:r>
              <a:rPr b="1" lang="en-US" sz="2200" spc="-1" strike="noStrike" u="sng">
                <a:solidFill>
                  <a:srgbClr val="fb796b"/>
                </a:solidFill>
                <a:uFillTx/>
                <a:latin typeface="Arial"/>
                <a:hlinkClick r:id="rId2"/>
              </a:rPr>
              <a:t>www.vsnetevents.com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Trained on Microsoft Developer Technolo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ttend the weekly MSDN Developer Webcasts; Tuesdays, 11:00 am ps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ister to attend at http://www.microsoft.com/usa/webcasts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Integrated Solutions: Attend TechEd 200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pril 9-13, New Orlea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 more information, visit msdn.microsoft.com/tech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up on the latest Developer N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gn up for the MSDN Flash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tp://msdn.microsoft.com/flash/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1360" y="1571760"/>
            <a:ext cx="89582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Web Services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Wire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He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286000" y="4746600"/>
            <a:ext cx="4724280" cy="1451160"/>
            <a:chOff x="2286000" y="4746600"/>
            <a:chExt cx="4724280" cy="1451160"/>
          </a:xfrm>
        </p:grpSpPr>
        <p:sp>
          <p:nvSpPr>
            <p:cNvPr id="56" name=""/>
            <p:cNvSpPr/>
            <p:nvPr/>
          </p:nvSpPr>
          <p:spPr>
            <a:xfrm>
              <a:off x="2286000" y="4746600"/>
              <a:ext cx="4724280" cy="14511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240" y="4799520"/>
              <a:ext cx="3926880" cy="4129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et me talk to you (SOAP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77777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5760" y="-3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Web Services</a:t>
            </a:r>
            <a:br>
              <a:rPr sz="4400"/>
            </a:br>
            <a:r>
              <a:rPr b="1" lang="en-US" sz="3200" spc="-1" strike="noStrike">
                <a:solidFill>
                  <a:srgbClr val="fb796b"/>
                </a:solidFill>
                <a:latin typeface="Arial"/>
              </a:rPr>
              <a:t>Architecture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6451560"/>
            <a:ext cx="30700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sign-Time or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6280" y="6451560"/>
            <a:ext cx="118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0" y="2894040"/>
            <a:ext cx="4724280" cy="1523880"/>
            <a:chOff x="2286000" y="2894040"/>
            <a:chExt cx="4724280" cy="1523880"/>
          </a:xfrm>
        </p:grpSpPr>
        <p:sp>
          <p:nvSpPr>
            <p:cNvPr id="63" name=""/>
            <p:cNvSpPr/>
            <p:nvPr/>
          </p:nvSpPr>
          <p:spPr>
            <a:xfrm>
              <a:off x="2286000" y="2894040"/>
              <a:ext cx="4724280" cy="1523880"/>
            </a:xfrm>
            <a:prstGeom prst="rect">
              <a:avLst/>
            </a:prstGeom>
            <a:solidFill>
              <a:srgbClr val="fb7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65440" y="2919600"/>
              <a:ext cx="3755880" cy="412920"/>
            </a:xfrm>
            <a:prstGeom prst="rect">
              <a:avLst/>
            </a:prstGeom>
            <a:solidFill>
              <a:srgbClr val="fb7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ow do we talk? (WSDL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819520" y="3224160"/>
            <a:ext cx="4419360" cy="609480"/>
            <a:chOff x="2819520" y="3224160"/>
            <a:chExt cx="4419360" cy="60948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819520" y="3224160"/>
              <a:ext cx="4419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277440" y="3379680"/>
              <a:ext cx="35092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ttp://yourservice.com/?WSD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981080" y="3651120"/>
            <a:ext cx="4343400" cy="645840"/>
            <a:chOff x="1981080" y="3651120"/>
            <a:chExt cx="4343400" cy="645840"/>
          </a:xfrm>
        </p:grpSpPr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1981080" y="3651120"/>
              <a:ext cx="434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286720" y="3823920"/>
              <a:ext cx="34588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ML with service descrip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19520" y="5154480"/>
            <a:ext cx="4419360" cy="609480"/>
            <a:chOff x="2819520" y="5154480"/>
            <a:chExt cx="4419360" cy="60948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2819520" y="5154480"/>
              <a:ext cx="4419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355200" y="5310000"/>
              <a:ext cx="32011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ttp://yourservice.com/svc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981080" y="5592600"/>
            <a:ext cx="4343400" cy="646200"/>
            <a:chOff x="1981080" y="5592600"/>
            <a:chExt cx="4343400" cy="646200"/>
          </a:xfrm>
        </p:grpSpPr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1981080" y="5592600"/>
              <a:ext cx="4343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972880" y="5765760"/>
              <a:ext cx="20995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ML/SOAP BO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238880" y="2895480"/>
            <a:ext cx="1676520" cy="3295800"/>
            <a:chOff x="7238880" y="2895480"/>
            <a:chExt cx="1676520" cy="3295800"/>
          </a:xfrm>
        </p:grpSpPr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7238880" y="2895480"/>
              <a:ext cx="1676520" cy="32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467480" y="4276800"/>
              <a:ext cx="122076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Web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Serv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16080" y="1185840"/>
            <a:ext cx="1676160" cy="5018040"/>
            <a:chOff x="316080" y="1185840"/>
            <a:chExt cx="1676160" cy="5018040"/>
          </a:xfrm>
        </p:grpSpPr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316080" y="1185840"/>
              <a:ext cx="167616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43080" y="3096000"/>
              <a:ext cx="16239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Servic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Consum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022640" y="2163600"/>
            <a:ext cx="184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6580080"/>
            <a:ext cx="685800" cy="152640"/>
          </a:xfrm>
          <a:prstGeom prst="rect">
            <a:avLst/>
          </a:prstGeom>
          <a:solidFill>
            <a:srgbClr val="9362a0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578640"/>
            <a:ext cx="685800" cy="155520"/>
          </a:xfrm>
          <a:prstGeom prst="rect">
            <a:avLst/>
          </a:prstGeom>
          <a:solidFill>
            <a:srgbClr val="fb796b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238880" y="1150920"/>
            <a:ext cx="1676520" cy="1447920"/>
            <a:chOff x="7238880" y="1150920"/>
            <a:chExt cx="1676520" cy="1447920"/>
          </a:xfrm>
        </p:grpSpPr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7238880" y="1150920"/>
              <a:ext cx="16765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467480" y="1758600"/>
              <a:ext cx="122076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UDD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286000" y="1179360"/>
            <a:ext cx="4724280" cy="1451160"/>
            <a:chOff x="2286000" y="1179360"/>
            <a:chExt cx="4724280" cy="1451160"/>
          </a:xfrm>
        </p:grpSpPr>
        <p:sp>
          <p:nvSpPr>
            <p:cNvPr id="90" name=""/>
            <p:cNvSpPr/>
            <p:nvPr/>
          </p:nvSpPr>
          <p:spPr>
            <a:xfrm>
              <a:off x="2286000" y="1179360"/>
              <a:ext cx="4724280" cy="1451160"/>
            </a:xfrm>
            <a:prstGeom prst="rect">
              <a:avLst/>
            </a:prstGeom>
            <a:solidFill>
              <a:srgbClr val="fb7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11600" y="1207800"/>
              <a:ext cx="187308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nd a 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819520" y="1511280"/>
            <a:ext cx="4419360" cy="609480"/>
            <a:chOff x="2819520" y="1511280"/>
            <a:chExt cx="4419360" cy="609480"/>
          </a:xfrm>
        </p:grpSpPr>
        <p:pic>
          <p:nvPicPr>
            <p:cNvPr id="93" name="" descr=""/>
            <p:cNvPicPr/>
            <p:nvPr/>
          </p:nvPicPr>
          <p:blipFill>
            <a:blip r:embed="rId9"/>
            <a:stretch/>
          </p:blipFill>
          <p:spPr>
            <a:xfrm>
              <a:off x="2819520" y="1511280"/>
              <a:ext cx="4419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731760" y="1666800"/>
              <a:ext cx="23342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ttp://www.uddi.or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81080" y="1941480"/>
            <a:ext cx="4343400" cy="646200"/>
            <a:chOff x="1981080" y="1941480"/>
            <a:chExt cx="4343400" cy="646200"/>
          </a:xfrm>
        </p:grpSpPr>
        <p:pic>
          <p:nvPicPr>
            <p:cNvPr id="96" name="" descr=""/>
            <p:cNvPicPr/>
            <p:nvPr/>
          </p:nvPicPr>
          <p:blipFill>
            <a:blip r:embed="rId10"/>
            <a:stretch/>
          </p:blipFill>
          <p:spPr>
            <a:xfrm>
              <a:off x="1981080" y="1941480"/>
              <a:ext cx="4343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285280" y="2114640"/>
              <a:ext cx="39070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nk to DISCO or WSDL docu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022640" y="1095480"/>
            <a:ext cx="1843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2280" y="1335240"/>
            <a:ext cx="80218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 Services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XML Wire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He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AP Ext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7960" y="1757520"/>
            <a:ext cx="863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oap:Envelope ...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oap:Bod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CreateExpenseReportRespons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CreateExpenseReportResul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EmailName&gt;rhoward&lt;/EmailName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Expense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Expens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Description&gt;Expresso shots and no-doz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morning sessions&lt;/Description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Cost&gt;priceless&lt;/Cost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Expens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Expense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CreateExpenseReportResul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CreateExpenseReportRespons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soap:Bod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soap:Envelop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5240" y="1143000"/>
            <a:ext cx="8762760" cy="5286240"/>
            <a:chOff x="165240" y="1143000"/>
            <a:chExt cx="8762760" cy="5286240"/>
          </a:xfrm>
        </p:grpSpPr>
        <p:sp>
          <p:nvSpPr>
            <p:cNvPr id="103" name=""/>
            <p:cNvSpPr/>
            <p:nvPr/>
          </p:nvSpPr>
          <p:spPr>
            <a:xfrm>
              <a:off x="165240" y="1143000"/>
              <a:ext cx="8762760" cy="5286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240" y="1154520"/>
              <a:ext cx="8749800" cy="55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b796b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223ae"/>
                  </a:solidFill>
                  <a:latin typeface="Arial"/>
                </a:rPr>
                <a:t>SOAP Messag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55600" y="3052800"/>
            <a:ext cx="1816200" cy="44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960" y="2100240"/>
            <a:ext cx="4699080" cy="723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98440" y="3576600"/>
            <a:ext cx="2248200" cy="55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XML Wire Format</a:t>
            </a:r>
            <a:br>
              <a:rPr sz="3200"/>
            </a:br>
            <a:r>
              <a:rPr b="1" lang="en-US" sz="2800" spc="-1" strike="noStrike">
                <a:solidFill>
                  <a:srgbClr val="fb796b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920" y="11556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XML Wire Format</a:t>
            </a:r>
            <a:br>
              <a:rPr sz="4000"/>
            </a:br>
            <a:r>
              <a:rPr b="1" lang="en-US" sz="3600" spc="-1" strike="noStrike">
                <a:solidFill>
                  <a:srgbClr val="fb796b"/>
                </a:solidFill>
                <a:latin typeface="Arial"/>
              </a:rPr>
              <a:t>Detail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2280" y="1538280"/>
            <a:ext cx="802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nular control over XML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-GET  and HTTP-P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d in WSD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 for the XML Serializ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ystem.Web.XmlSerial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mlEle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apEl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mlAttribu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apAttribu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mlArra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oapArr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095560" y="1228680"/>
          <a:ext cx="4952880" cy="44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5560" y="1228680"/>
                    <a:ext cx="49528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914480"/>
            <a:ext cx="82994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00"/>
                </a:solidFill>
                <a:latin typeface="Arial"/>
              </a:rPr>
              <a:t>Demonstration 1</a:t>
            </a:r>
            <a:br>
              <a:rPr sz="5400"/>
            </a:br>
            <a:r>
              <a:rPr b="1" lang="en-GB" sz="4800" spc="-1" strike="noStrike">
                <a:solidFill>
                  <a:srgbClr val="ff9900"/>
                </a:solidFill>
                <a:latin typeface="Arial"/>
              </a:rPr>
              <a:t>Formatting XML Output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7:56:10Z</dcterms:created>
  <dc:creator>MSDN</dc:creator>
  <dc:description/>
  <dc:language>en-US</dc:language>
  <cp:lastModifiedBy>Georgeo Pulikkathara</cp:lastModifiedBy>
  <cp:lastPrinted>1997-09-03T17:07:51Z</cp:lastPrinted>
  <dcterms:modified xsi:type="dcterms:W3CDTF">2002-01-29T21:47:20Z</dcterms:modified>
  <cp:revision>151</cp:revision>
  <dc:subject/>
  <dc:title>Advanced Web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evel">
    <vt:lpwstr>Level 200</vt:lpwstr>
  </property>
  <property fmtid="{D5CDD505-2E9C-101B-9397-08002B2CF9AE}" pid="3" name="Program">
    <vt:lpwstr>MSDN</vt:lpwstr>
  </property>
  <property fmtid="{D5CDD505-2E9C-101B-9397-08002B2CF9AE}" pid="4" name="Session ID">
    <vt:lpwstr>DEVT1-40</vt:lpwstr>
  </property>
  <property fmtid="{D5CDD505-2E9C-101B-9397-08002B2CF9AE}" pid="5" name="Status">
    <vt:lpwstr>Work in Progress</vt:lpwstr>
  </property>
  <property fmtid="{D5CDD505-2E9C-101B-9397-08002B2CF9AE}" pid="6" name="Support">
    <vt:lpwstr>devhelp@microsoft.com</vt:lpwstr>
  </property>
  <property fmtid="{D5CDD505-2E9C-101B-9397-08002B2CF9AE}" pid="7" name="Version">
    <vt:lpwstr>3.0</vt:lpwstr>
  </property>
  <property fmtid="{D5CDD505-2E9C-101B-9397-08002B2CF9AE}" pid="8" name="_AdHocReviewCycleID">
    <vt:r8>-1298573367</vt:r8>
  </property>
  <property fmtid="{D5CDD505-2E9C-101B-9397-08002B2CF9AE}" pid="9" name="_AuthorEmail">
    <vt:lpwstr>georgeop@microsoft.com</vt:lpwstr>
  </property>
  <property fmtid="{D5CDD505-2E9C-101B-9397-08002B2CF9AE}" pid="10" name="_AuthorEmailDisplayName">
    <vt:lpwstr>Georgeo Pulikkathara</vt:lpwstr>
  </property>
  <property fmtid="{D5CDD505-2E9C-101B-9397-08002B2CF9AE}" pid="11" name="_EmailSubject">
    <vt:lpwstr>Thanks for Attending today's webcast</vt:lpwstr>
  </property>
</Properties>
</file>