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831388" cy="73152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080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536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20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080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3880" y="422280"/>
            <a:ext cx="84013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29800" cy="121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3204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Font typeface="Tahoma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06992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6553080"/>
            <a:ext cx="210024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00000" y="2600280"/>
            <a:ext cx="8356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9296280" cy="1067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Scalable Server-Side XML Processing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638680" y="2666880"/>
            <a:ext cx="3962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Jon Rauschenber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irector of Technology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Clarity Consulting, Inc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rerequisites for presentation: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 assume you know: 1) VB; 2) XML; 3) SQL Serv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3"/>
              </a:spcBef>
              <a:spcAft>
                <a:spcPts val="31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Level: Intermedi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14600"/>
            <a:ext cx="5410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800" spc="-1" strike="noStrike">
                <a:solidFill>
                  <a:srgbClr val="ffffff"/>
                </a:solidFill>
                <a:latin typeface="Tahoma"/>
              </a:rPr>
              <a:t>32</a:t>
            </a:r>
            <a:endParaRPr b="0" lang="en-US" sz="2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29200" y="1676520"/>
            <a:ext cx="4419720" cy="5486400"/>
          </a:xfrm>
          <a:prstGeom prst="rect">
            <a:avLst/>
          </a:prstGeom>
          <a:gradFill rotWithShape="0">
            <a:gsLst>
              <a:gs pos="0">
                <a:srgbClr val="4365a8"/>
              </a:gs>
              <a:gs pos="100000">
                <a:srgbClr val="66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M Obje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Does This Look Like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68600" y="1314360"/>
            <a:ext cx="9731160" cy="360"/>
            <a:chOff x="1668600" y="1314360"/>
            <a:chExt cx="9731160" cy="360"/>
          </a:xfrm>
        </p:grpSpPr>
        <p:sp>
          <p:nvSpPr>
            <p:cNvPr id="93" name=""/>
            <p:cNvSpPr/>
            <p:nvPr/>
          </p:nvSpPr>
          <p:spPr>
            <a:xfrm>
              <a:off x="1668600" y="1314360"/>
              <a:ext cx="97311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68600" y="1314360"/>
              <a:ext cx="97311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04920" y="1676520"/>
            <a:ext cx="4343400" cy="5486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4365a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 Docu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133720"/>
            <a:ext cx="350532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?xml version=“1.0”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590920"/>
            <a:ext cx="3505320" cy="419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addressbook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971800"/>
            <a:ext cx="327636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3526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name&gt;John Doe&lt;/na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8098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mail&gt;jdoe@yahoo.com&lt;/email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4800600"/>
            <a:ext cx="327636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814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name&gt;Jane Doe&lt;/na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6386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mail&gt;jdoe@mail.com&lt;/email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257800" y="2514600"/>
            <a:ext cx="4114800" cy="3583800"/>
            <a:chOff x="5257800" y="2514600"/>
            <a:chExt cx="4114800" cy="3583800"/>
          </a:xfrm>
        </p:grpSpPr>
        <p:sp>
          <p:nvSpPr>
            <p:cNvPr id="105" name="File"/>
            <p:cNvSpPr/>
            <p:nvPr/>
          </p:nvSpPr>
          <p:spPr>
            <a:xfrm>
              <a:off x="5257800" y="2514600"/>
              <a:ext cx="685800" cy="3808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ile"/>
            <p:cNvSpPr/>
            <p:nvPr/>
          </p:nvSpPr>
          <p:spPr>
            <a:xfrm>
              <a:off x="5791320" y="2971800"/>
              <a:ext cx="685800" cy="3808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19920" y="25909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ressboo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8" name=""/>
            <p:cNvCxnSpPr>
              <a:stCxn id="105" idx="6"/>
              <a:endCxn id="106" idx="6"/>
            </p:cNvCxnSpPr>
            <p:nvPr/>
          </p:nvCxnSpPr>
          <p:spPr>
            <a:xfrm flipH="1" rot="16200000">
              <a:off x="5562000" y="2932920"/>
              <a:ext cx="26712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9" name=""/>
            <p:cNvSpPr/>
            <p:nvPr/>
          </p:nvSpPr>
          <p:spPr>
            <a:xfrm>
              <a:off x="6553080" y="30481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ile"/>
            <p:cNvSpPr/>
            <p:nvPr/>
          </p:nvSpPr>
          <p:spPr>
            <a:xfrm>
              <a:off x="6324480" y="3429000"/>
              <a:ext cx="685800" cy="3808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6600" y="35053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me=“John Doe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>
              <a:stCxn id="105" idx="7"/>
              <a:endCxn id="110" idx="6"/>
            </p:cNvCxnSpPr>
            <p:nvPr/>
          </p:nvCxnSpPr>
          <p:spPr>
            <a:xfrm flipH="1" rot="16200000">
              <a:off x="5600520" y="2895120"/>
              <a:ext cx="72468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" name="File"/>
            <p:cNvSpPr/>
            <p:nvPr/>
          </p:nvSpPr>
          <p:spPr>
            <a:xfrm>
              <a:off x="6324480" y="3886200"/>
              <a:ext cx="685800" cy="3808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6600" y="39625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ail=jdoe@yahoo.com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>
              <a:stCxn id="105" idx="8"/>
              <a:endCxn id="113" idx="6"/>
            </p:cNvCxnSpPr>
            <p:nvPr/>
          </p:nvCxnSpPr>
          <p:spPr>
            <a:xfrm flipH="1" rot="16200000">
              <a:off x="5371920" y="3123720"/>
              <a:ext cx="118188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6" name="File"/>
            <p:cNvSpPr/>
            <p:nvPr/>
          </p:nvSpPr>
          <p:spPr>
            <a:xfrm>
              <a:off x="5791320" y="4724280"/>
              <a:ext cx="685800" cy="38124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53080" y="48006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5" idx="9"/>
              <a:endCxn id="116" idx="6"/>
            </p:cNvCxnSpPr>
            <p:nvPr/>
          </p:nvCxnSpPr>
          <p:spPr>
            <a:xfrm flipH="1" rot="16200000">
              <a:off x="4685400" y="3809880"/>
              <a:ext cx="2020320" cy="191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9" name="File"/>
            <p:cNvSpPr/>
            <p:nvPr/>
          </p:nvSpPr>
          <p:spPr>
            <a:xfrm>
              <a:off x="6324480" y="5257800"/>
              <a:ext cx="685800" cy="3808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86600" y="5334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me=“John Doe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ile"/>
            <p:cNvSpPr/>
            <p:nvPr/>
          </p:nvSpPr>
          <p:spPr>
            <a:xfrm>
              <a:off x="6324480" y="5715000"/>
              <a:ext cx="685800" cy="380880"/>
            </a:xfrm>
            <a:prstGeom prst="pi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8660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ail=jdoe@yahoo.com”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3" name=""/>
            <p:cNvCxnSpPr>
              <a:stCxn id="105" idx="10"/>
              <a:endCxn id="119" idx="6"/>
            </p:cNvCxnSpPr>
            <p:nvPr/>
          </p:nvCxnSpPr>
          <p:spPr>
            <a:xfrm flipH="1" rot="16200000">
              <a:off x="4686480" y="3809160"/>
              <a:ext cx="255312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"/>
            <p:cNvCxnSpPr>
              <a:stCxn id="105" idx="11"/>
              <a:endCxn id="121" idx="6"/>
            </p:cNvCxnSpPr>
            <p:nvPr/>
          </p:nvCxnSpPr>
          <p:spPr>
            <a:xfrm flipH="1" rot="16200000">
              <a:off x="4457520" y="4038120"/>
              <a:ext cx="3010680" cy="724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25" name=""/>
          <p:cNvSpPr/>
          <p:nvPr/>
        </p:nvSpPr>
        <p:spPr>
          <a:xfrm>
            <a:off x="3886200" y="3200400"/>
            <a:ext cx="1447920" cy="2362320"/>
          </a:xfrm>
          <a:custGeom>
            <a:avLst/>
            <a:gdLst>
              <a:gd name="textAreaLeft" fmla="*/ 226080 w 1447920"/>
              <a:gd name="textAreaRight" fmla="*/ 1236960 w 1447920"/>
              <a:gd name="textAreaTop" fmla="*/ 492120 h 2362320"/>
              <a:gd name="textAreaBottom" fmla="*/ 1870200 h 2362320"/>
            </a:gdLst>
            <a:ahLst/>
            <a:rect l="textAreaLeft" t="textAreaTop" r="textAreaRight" b="textAreaBottom"/>
            <a:pathLst>
              <a:path w="21600" h="21600">
                <a:moveTo>
                  <a:pt x="3375" y="4500"/>
                </a:moveTo>
                <a:lnTo>
                  <a:pt x="16200" y="45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100"/>
                </a:lnTo>
                <a:lnTo>
                  <a:pt x="3375" y="17100"/>
                </a:lnTo>
                <a:close/>
              </a:path>
              <a:path w="21600" h="21600">
                <a:moveTo>
                  <a:pt x="0" y="4500"/>
                </a:moveTo>
                <a:lnTo>
                  <a:pt x="675" y="4500"/>
                </a:lnTo>
                <a:lnTo>
                  <a:pt x="675" y="17100"/>
                </a:lnTo>
                <a:lnTo>
                  <a:pt x="0" y="17100"/>
                </a:lnTo>
                <a:close/>
              </a:path>
              <a:path w="21600" h="21600">
                <a:moveTo>
                  <a:pt x="1350" y="4500"/>
                </a:moveTo>
                <a:lnTo>
                  <a:pt x="2700" y="4500"/>
                </a:lnTo>
                <a:lnTo>
                  <a:pt x="2700" y="17100"/>
                </a:lnTo>
                <a:lnTo>
                  <a:pt x="1350" y="171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ML Parsing with the D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B6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B.N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view of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ful XML Proc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eless XML Proc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tateless XML Pars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e a ‘cursor’ through the document and feed the results to the ca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basic approach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ush:  Parser fires events to the call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ull:  Client requests data from the pars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SAX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56419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ple API for X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nt-based XML parsing AP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governed by any standards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711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Guy named David Megginson basically owns it…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e DOM, SAX is simply a programming model that the developers of individual XML parsers imp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711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AX parser written in Java would expose the equivalent events…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ward-only, read-only AP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711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Streams document to client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12"/>
              </a:spcBef>
              <a:spcAft>
                <a:spcPts val="462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upported in MSXML 3.0 and high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711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Not supported by .NET Framework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sh’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1676520"/>
            <a:ext cx="4190760" cy="5486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4365a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 Docu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Does This Look Like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2133720"/>
            <a:ext cx="350532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?xml version=“1.0”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590920"/>
            <a:ext cx="3505320" cy="419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addressbook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2971800"/>
            <a:ext cx="327636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3526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name&gt;John Doe&lt;/na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8098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mail&gt;jdoe@yahoo.com&lt;/email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4800600"/>
            <a:ext cx="327636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1814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name&gt;Jane Doe&lt;/na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6386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mail&gt;jdoe@mail.com&lt;/email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676520"/>
            <a:ext cx="4191120" cy="5486400"/>
          </a:xfrm>
          <a:prstGeom prst="rect">
            <a:avLst/>
          </a:prstGeom>
          <a:gradFill rotWithShape="0">
            <a:gsLst>
              <a:gs pos="0">
                <a:srgbClr val="4365a8"/>
              </a:gs>
              <a:gs pos="100000">
                <a:srgbClr val="66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X Obje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86200" y="2133720"/>
            <a:ext cx="5181480" cy="304560"/>
            <a:chOff x="3886200" y="2133720"/>
            <a:chExt cx="5181480" cy="304560"/>
          </a:xfrm>
        </p:grpSpPr>
        <p:sp>
          <p:nvSpPr>
            <p:cNvPr id="146" name=""/>
            <p:cNvSpPr/>
            <p:nvPr/>
          </p:nvSpPr>
          <p:spPr>
            <a:xfrm>
              <a:off x="3886200" y="2133720"/>
              <a:ext cx="1905120" cy="30456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560"/>
                <a:gd name="textAreaBottom" fmla="*/ 2412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867280" y="2133720"/>
              <a:ext cx="3200400" cy="304560"/>
              <a:chOff x="5867280" y="2133720"/>
              <a:chExt cx="3200400" cy="304560"/>
            </a:xfrm>
          </p:grpSpPr>
          <p:sp>
            <p:nvSpPr>
              <p:cNvPr id="148" name=""/>
              <p:cNvSpPr/>
              <p:nvPr/>
            </p:nvSpPr>
            <p:spPr>
              <a:xfrm>
                <a:off x="5867280" y="2133720"/>
                <a:ext cx="320040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Docume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3600" y="2193840"/>
                <a:ext cx="228600" cy="18360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3886200" y="2590920"/>
            <a:ext cx="5181480" cy="304560"/>
            <a:chOff x="3886200" y="2590920"/>
            <a:chExt cx="5181480" cy="304560"/>
          </a:xfrm>
        </p:grpSpPr>
        <p:sp>
          <p:nvSpPr>
            <p:cNvPr id="151" name=""/>
            <p:cNvSpPr/>
            <p:nvPr/>
          </p:nvSpPr>
          <p:spPr>
            <a:xfrm>
              <a:off x="3886200" y="2590920"/>
              <a:ext cx="1905120" cy="30456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560"/>
                <a:gd name="textAreaBottom" fmla="*/ 2412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867280" y="2590920"/>
              <a:ext cx="3200400" cy="304560"/>
              <a:chOff x="5867280" y="2590920"/>
              <a:chExt cx="3200400" cy="304560"/>
            </a:xfrm>
          </p:grpSpPr>
          <p:sp>
            <p:nvSpPr>
              <p:cNvPr id="153" name=""/>
              <p:cNvSpPr/>
              <p:nvPr/>
            </p:nvSpPr>
            <p:spPr>
              <a:xfrm>
                <a:off x="5867280" y="2590920"/>
                <a:ext cx="320040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Eleme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943600" y="2651040"/>
                <a:ext cx="228600" cy="18360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3886200" y="3352680"/>
            <a:ext cx="5181480" cy="304920"/>
            <a:chOff x="3886200" y="3352680"/>
            <a:chExt cx="5181480" cy="304920"/>
          </a:xfrm>
        </p:grpSpPr>
        <p:sp>
          <p:nvSpPr>
            <p:cNvPr id="156" name=""/>
            <p:cNvSpPr/>
            <p:nvPr/>
          </p:nvSpPr>
          <p:spPr>
            <a:xfrm>
              <a:off x="3886200" y="3352680"/>
              <a:ext cx="1905120" cy="30492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867280" y="3352680"/>
              <a:ext cx="3200400" cy="304920"/>
              <a:chOff x="5867280" y="3352680"/>
              <a:chExt cx="3200400" cy="304920"/>
            </a:xfrm>
          </p:grpSpPr>
          <p:sp>
            <p:nvSpPr>
              <p:cNvPr id="158" name=""/>
              <p:cNvSpPr/>
              <p:nvPr/>
            </p:nvSpPr>
            <p:spPr>
              <a:xfrm>
                <a:off x="5867280" y="3352680"/>
                <a:ext cx="3200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Element &amp; charact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43600" y="3413160"/>
                <a:ext cx="228600" cy="18396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3886200" y="3809880"/>
            <a:ext cx="5181480" cy="304920"/>
            <a:chOff x="3886200" y="3809880"/>
            <a:chExt cx="5181480" cy="304920"/>
          </a:xfrm>
        </p:grpSpPr>
        <p:sp>
          <p:nvSpPr>
            <p:cNvPr id="161" name=""/>
            <p:cNvSpPr/>
            <p:nvPr/>
          </p:nvSpPr>
          <p:spPr>
            <a:xfrm>
              <a:off x="3886200" y="3809880"/>
              <a:ext cx="1905120" cy="30492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867280" y="3809880"/>
              <a:ext cx="3200400" cy="304920"/>
              <a:chOff x="5867280" y="3809880"/>
              <a:chExt cx="3200400" cy="304920"/>
            </a:xfrm>
          </p:grpSpPr>
          <p:sp>
            <p:nvSpPr>
              <p:cNvPr id="163" name=""/>
              <p:cNvSpPr/>
              <p:nvPr/>
            </p:nvSpPr>
            <p:spPr>
              <a:xfrm>
                <a:off x="5867280" y="3809880"/>
                <a:ext cx="3200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Element &amp; charact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43600" y="3870360"/>
                <a:ext cx="228600" cy="18396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3886200" y="4267080"/>
            <a:ext cx="5181480" cy="304920"/>
            <a:chOff x="3886200" y="4267080"/>
            <a:chExt cx="5181480" cy="304920"/>
          </a:xfrm>
        </p:grpSpPr>
        <p:sp>
          <p:nvSpPr>
            <p:cNvPr id="166" name=""/>
            <p:cNvSpPr/>
            <p:nvPr/>
          </p:nvSpPr>
          <p:spPr>
            <a:xfrm>
              <a:off x="3886200" y="4267080"/>
              <a:ext cx="1905120" cy="30492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867280" y="4267080"/>
              <a:ext cx="3200400" cy="304920"/>
              <a:chOff x="5867280" y="4267080"/>
              <a:chExt cx="3200400" cy="304920"/>
            </a:xfrm>
          </p:grpSpPr>
          <p:sp>
            <p:nvSpPr>
              <p:cNvPr id="168" name=""/>
              <p:cNvSpPr/>
              <p:nvPr/>
            </p:nvSpPr>
            <p:spPr>
              <a:xfrm>
                <a:off x="5867280" y="4267080"/>
                <a:ext cx="3200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Element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943600" y="4327560"/>
                <a:ext cx="228600" cy="18396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3886200" y="4800600"/>
            <a:ext cx="5181480" cy="304920"/>
            <a:chOff x="3886200" y="4800600"/>
            <a:chExt cx="5181480" cy="304920"/>
          </a:xfrm>
        </p:grpSpPr>
        <p:sp>
          <p:nvSpPr>
            <p:cNvPr id="171" name=""/>
            <p:cNvSpPr/>
            <p:nvPr/>
          </p:nvSpPr>
          <p:spPr>
            <a:xfrm>
              <a:off x="3886200" y="4800600"/>
              <a:ext cx="1905120" cy="30492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867280" y="4800600"/>
              <a:ext cx="3200400" cy="304920"/>
              <a:chOff x="5867280" y="4800600"/>
              <a:chExt cx="320040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5867280" y="4800600"/>
                <a:ext cx="3200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Eleme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43600" y="4861080"/>
                <a:ext cx="228600" cy="18396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3886200" y="5181480"/>
            <a:ext cx="5181480" cy="304920"/>
            <a:chOff x="3886200" y="5181480"/>
            <a:chExt cx="5181480" cy="304920"/>
          </a:xfrm>
        </p:grpSpPr>
        <p:sp>
          <p:nvSpPr>
            <p:cNvPr id="176" name=""/>
            <p:cNvSpPr/>
            <p:nvPr/>
          </p:nvSpPr>
          <p:spPr>
            <a:xfrm>
              <a:off x="3886200" y="5181480"/>
              <a:ext cx="1905120" cy="30492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867280" y="5181480"/>
              <a:ext cx="3200400" cy="304920"/>
              <a:chOff x="5867280" y="5181480"/>
              <a:chExt cx="3200400" cy="304920"/>
            </a:xfrm>
          </p:grpSpPr>
          <p:sp>
            <p:nvSpPr>
              <p:cNvPr id="178" name=""/>
              <p:cNvSpPr/>
              <p:nvPr/>
            </p:nvSpPr>
            <p:spPr>
              <a:xfrm>
                <a:off x="5867280" y="5181480"/>
                <a:ext cx="3200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Element &amp; charact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943600" y="5241960"/>
                <a:ext cx="228600" cy="18396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3886200" y="5562720"/>
            <a:ext cx="5181480" cy="304560"/>
            <a:chOff x="3886200" y="5562720"/>
            <a:chExt cx="5181480" cy="304560"/>
          </a:xfrm>
        </p:grpSpPr>
        <p:sp>
          <p:nvSpPr>
            <p:cNvPr id="181" name=""/>
            <p:cNvSpPr/>
            <p:nvPr/>
          </p:nvSpPr>
          <p:spPr>
            <a:xfrm>
              <a:off x="3886200" y="5562720"/>
              <a:ext cx="1905120" cy="30456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560"/>
                <a:gd name="textAreaBottom" fmla="*/ 2412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5867280" y="5562720"/>
              <a:ext cx="3200400" cy="304560"/>
              <a:chOff x="5867280" y="5562720"/>
              <a:chExt cx="320040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5867280" y="5562720"/>
                <a:ext cx="320040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Element &amp; characters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43600" y="5622840"/>
                <a:ext cx="228600" cy="18360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3886200" y="6019920"/>
            <a:ext cx="5181480" cy="304560"/>
            <a:chOff x="3886200" y="6019920"/>
            <a:chExt cx="5181480" cy="304560"/>
          </a:xfrm>
        </p:grpSpPr>
        <p:sp>
          <p:nvSpPr>
            <p:cNvPr id="186" name=""/>
            <p:cNvSpPr/>
            <p:nvPr/>
          </p:nvSpPr>
          <p:spPr>
            <a:xfrm>
              <a:off x="3886200" y="6019920"/>
              <a:ext cx="1905120" cy="30456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560"/>
                <a:gd name="textAreaBottom" fmla="*/ 2412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867280" y="6019920"/>
              <a:ext cx="3200400" cy="304560"/>
              <a:chOff x="5867280" y="6019920"/>
              <a:chExt cx="3200400" cy="304560"/>
            </a:xfrm>
          </p:grpSpPr>
          <p:sp>
            <p:nvSpPr>
              <p:cNvPr id="188" name=""/>
              <p:cNvSpPr/>
              <p:nvPr/>
            </p:nvSpPr>
            <p:spPr>
              <a:xfrm>
                <a:off x="5867280" y="6019920"/>
                <a:ext cx="3200400" cy="30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Element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43600" y="6080040"/>
                <a:ext cx="228600" cy="18360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3886200" y="6400800"/>
            <a:ext cx="5181480" cy="304920"/>
            <a:chOff x="3886200" y="6400800"/>
            <a:chExt cx="5181480" cy="304920"/>
          </a:xfrm>
        </p:grpSpPr>
        <p:sp>
          <p:nvSpPr>
            <p:cNvPr id="191" name=""/>
            <p:cNvSpPr/>
            <p:nvPr/>
          </p:nvSpPr>
          <p:spPr>
            <a:xfrm>
              <a:off x="3886200" y="6400800"/>
              <a:ext cx="1905120" cy="304920"/>
            </a:xfrm>
            <a:custGeom>
              <a:avLst/>
              <a:gdLst>
                <a:gd name="textAreaLeft" fmla="*/ 297720 w 1905120"/>
                <a:gd name="textAreaRight" fmla="*/ 1627560 w 1905120"/>
                <a:gd name="textAreaTop" fmla="*/ 63360 h 304920"/>
                <a:gd name="textAreaBottom" fmla="*/ 2415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4500"/>
                  </a:moveTo>
                  <a:lnTo>
                    <a:pt x="16200" y="45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7100"/>
                  </a:lnTo>
                  <a:lnTo>
                    <a:pt x="3375" y="17100"/>
                  </a:lnTo>
                  <a:close/>
                </a:path>
                <a:path w="21600" h="21600">
                  <a:moveTo>
                    <a:pt x="0" y="4500"/>
                  </a:moveTo>
                  <a:lnTo>
                    <a:pt x="675" y="4500"/>
                  </a:lnTo>
                  <a:lnTo>
                    <a:pt x="675" y="17100"/>
                  </a:lnTo>
                  <a:lnTo>
                    <a:pt x="0" y="17100"/>
                  </a:lnTo>
                  <a:close/>
                </a:path>
                <a:path w="21600" h="21600">
                  <a:moveTo>
                    <a:pt x="1350" y="4500"/>
                  </a:moveTo>
                  <a:lnTo>
                    <a:pt x="2700" y="4500"/>
                  </a:lnTo>
                  <a:lnTo>
                    <a:pt x="2700" y="17100"/>
                  </a:lnTo>
                  <a:lnTo>
                    <a:pt x="1350" y="171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752f00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867280" y="6400800"/>
              <a:ext cx="3200400" cy="304920"/>
              <a:chOff x="5867280" y="6400800"/>
              <a:chExt cx="3200400" cy="304920"/>
            </a:xfrm>
          </p:grpSpPr>
          <p:sp>
            <p:nvSpPr>
              <p:cNvPr id="193" name=""/>
              <p:cNvSpPr/>
              <p:nvPr/>
            </p:nvSpPr>
            <p:spPr>
              <a:xfrm>
                <a:off x="5867280" y="6400800"/>
                <a:ext cx="3200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576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Element &amp; endDocumen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43600" y="6461280"/>
                <a:ext cx="228600" cy="183960"/>
              </a:xfrm>
              <a:prstGeom prst="lightningBol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5" dur="1" fill="hold"/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XMLReader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less parser in the .NET Frame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based on a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t on a ‘pull’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1676520"/>
            <a:ext cx="4190760" cy="54864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4365a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 Docu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Does This Look Like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133720"/>
            <a:ext cx="350532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?xml version=“1.0”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590920"/>
            <a:ext cx="3505320" cy="419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addressbook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971800"/>
            <a:ext cx="327636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3526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name&gt;John Doe&lt;/na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8098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mail&gt;jdoe@yahoo.com&lt;/email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800600"/>
            <a:ext cx="327636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1814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name&gt;Jane Doe&lt;/na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638680"/>
            <a:ext cx="31244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email&gt;jdoe@mail.com&lt;/email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1676520"/>
            <a:ext cx="4191120" cy="5486400"/>
          </a:xfrm>
          <a:prstGeom prst="rect">
            <a:avLst/>
          </a:prstGeom>
          <a:gradFill rotWithShape="0">
            <a:gsLst>
              <a:gs pos="0">
                <a:srgbClr val="4365a8"/>
              </a:gs>
              <a:gs pos="100000">
                <a:srgbClr val="66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Rea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2133720"/>
            <a:ext cx="32004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2590920"/>
            <a:ext cx="32004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3352680"/>
            <a:ext cx="32004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3809880"/>
            <a:ext cx="32004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4267080"/>
            <a:ext cx="32004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800600"/>
            <a:ext cx="32004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5181480"/>
            <a:ext cx="32004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562720"/>
            <a:ext cx="32004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6019920"/>
            <a:ext cx="32004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6400800"/>
            <a:ext cx="320040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00680" y="228600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4000680" y="213336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00680" y="274320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4000680" y="259056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0680" y="350532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0800000">
            <a:off x="4000680" y="3352680"/>
            <a:ext cx="1752480" cy="152640"/>
          </a:xfrm>
          <a:prstGeom prst="rightArrow">
            <a:avLst>
              <a:gd name="adj1" fmla="val 50000"/>
              <a:gd name="adj2" fmla="val 287028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0680" y="396252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4000680" y="3809880"/>
            <a:ext cx="1752480" cy="152640"/>
          </a:xfrm>
          <a:prstGeom prst="rightArrow">
            <a:avLst>
              <a:gd name="adj1" fmla="val 50000"/>
              <a:gd name="adj2" fmla="val 287028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00680" y="441972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4000680" y="4267080"/>
            <a:ext cx="1752480" cy="152640"/>
          </a:xfrm>
          <a:prstGeom prst="rightArrow">
            <a:avLst>
              <a:gd name="adj1" fmla="val 50000"/>
              <a:gd name="adj2" fmla="val 287028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0680" y="4952880"/>
            <a:ext cx="1752480" cy="152640"/>
          </a:xfrm>
          <a:prstGeom prst="rightArrow">
            <a:avLst>
              <a:gd name="adj1" fmla="val 50000"/>
              <a:gd name="adj2" fmla="val 287028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0800000">
            <a:off x="4000680" y="480024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00680" y="533412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0800000">
            <a:off x="4000680" y="5181480"/>
            <a:ext cx="1752480" cy="152640"/>
          </a:xfrm>
          <a:prstGeom prst="rightArrow">
            <a:avLst>
              <a:gd name="adj1" fmla="val 50000"/>
              <a:gd name="adj2" fmla="val 287028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00680" y="571500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4000680" y="556236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00680" y="617220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4000680" y="601956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00680" y="6553080"/>
            <a:ext cx="1752480" cy="152640"/>
          </a:xfrm>
          <a:prstGeom prst="rightArrow">
            <a:avLst>
              <a:gd name="adj1" fmla="val 50000"/>
              <a:gd name="adj2" fmla="val 287028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4000680" y="6400440"/>
            <a:ext cx="1752480" cy="152280"/>
          </a:xfrm>
          <a:prstGeom prst="rightArrow">
            <a:avLst>
              <a:gd name="adj1" fmla="val 50000"/>
              <a:gd name="adj2" fmla="val 287707"/>
            </a:avLst>
          </a:prstGeom>
          <a:gradFill rotWithShape="0">
            <a:gsLst>
              <a:gs pos="0">
                <a:srgbClr val="ff6600"/>
              </a:gs>
              <a:gs pos="50000">
                <a:srgbClr val="75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less XML Par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B6 (SAX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B.NET (XMLReader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view of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ful XML Proc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less XML Proc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ut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480" y="1447560"/>
            <a:ext cx="9524880" cy="6417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r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es one thing, and does it well: helps companies build apps with technologies like .Ne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mall teams that work alongside developers like you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loys about 50 consultants and serves clients worldwi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rity's Director of Technolog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SDN Regional Direct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ing is not my real jo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t http://clarityknows.net f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ides and sample c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icles and whitepap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S.NET Sample C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s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00"/>
              </a:spcBef>
              <a:spcAft>
                <a:spcPts val="451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ance/scalability tes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nclusions - DOM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mpler programming mod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re common API for Microsoft environment (today…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erally faster at processing entire documents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re features supported (i.e. XPath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arge memory footpri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90000"/>
              </a:lnSpc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 way to parse only a subset of the docu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ere Would I use DOM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choice for client-side processing due to faster processing of any size document (who cares about resource utilization on the client...) and more flexible data struc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choice for stateful processing (i.e. you need to look back at previous nodes as you traverse the doc..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nclusions – SAX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938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UCH smaller memory footpri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938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rders of magnitude faster in certain situation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938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re complicated programming mod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938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lower for parsing full docu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ere Would I Use SAX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ter choice for server-side processing of medium to large documents due to reduced resource uti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choice for a routing scenario (e.g. SOAP eng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Symbol" charset="2"/>
              <a:buChar char="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intuitive programming model (in my opinion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3048120"/>
            <a:ext cx="64008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61880" indent="-461880"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 Rauschenber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rausch@claritycon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1486080"/>
                <a:tab algn="l" pos="1828800"/>
                <a:tab algn="l" pos="22287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arityknows.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view of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ful XML Proc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less XML Proc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rver Side XML Processing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ML Parsing is inherently ineffic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ring manipulation vs. binary data manipul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ing XML on a server presents a new set of challeng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ed to consider resource utiliz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ften willing to sacrifice performance to gain scalabil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siest solution to implement can often cause problems…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ntents of XML Matters   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source utilization is less of a conc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source utilization quickly becomes an issu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32040" indent="0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mory usage grows exponentially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61880" indent="-46188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sing requi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81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jor differences if you only need to parse part of the docume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mmon Scenario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5295960" y="1752480"/>
            <a:ext cx="441972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372280" y="2209680"/>
            <a:ext cx="1675800" cy="838440"/>
            <a:chOff x="5372280" y="2209680"/>
            <a:chExt cx="1675800" cy="838440"/>
          </a:xfrm>
        </p:grpSpPr>
        <p:sp>
          <p:nvSpPr>
            <p:cNvPr id="55" name=""/>
            <p:cNvSpPr/>
            <p:nvPr/>
          </p:nvSpPr>
          <p:spPr>
            <a:xfrm>
              <a:off x="5816880" y="2209680"/>
              <a:ext cx="1231200" cy="8384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usin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Lo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(COM/.NET DLL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8760" y="2629080"/>
              <a:ext cx="25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72280" y="2514600"/>
              <a:ext cx="259560" cy="237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8420040" y="1981080"/>
            <a:ext cx="1143000" cy="1067040"/>
          </a:xfrm>
          <a:prstGeom prst="can">
            <a:avLst>
              <a:gd name="adj" fmla="val 25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atabase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81080"/>
            <a:ext cx="1295280" cy="106704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lient Ap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86080" y="1905120"/>
            <a:ext cx="3733560" cy="457200"/>
          </a:xfrm>
          <a:prstGeom prst="rightArrow">
            <a:avLst>
              <a:gd name="adj1" fmla="val 50000"/>
              <a:gd name="adj2" fmla="val 204154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OAP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6080" y="2590920"/>
            <a:ext cx="3657600" cy="457200"/>
          </a:xfrm>
          <a:prstGeom prst="leftArrow">
            <a:avLst>
              <a:gd name="adj1" fmla="val 50000"/>
              <a:gd name="adj2" fmla="val 200000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295280"/>
            <a:ext cx="9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ahoma"/>
              </a:rPr>
              <a:t>Desktop 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257800"/>
            <a:ext cx="9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ahoma"/>
              </a:rPr>
              <a:t>Server-to-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480" y="5791320"/>
            <a:ext cx="400032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171880" y="6172200"/>
            <a:ext cx="1675800" cy="838080"/>
            <a:chOff x="2171880" y="6172200"/>
            <a:chExt cx="1675800" cy="838080"/>
          </a:xfrm>
        </p:grpSpPr>
        <p:sp>
          <p:nvSpPr>
            <p:cNvPr id="66" name=""/>
            <p:cNvSpPr/>
            <p:nvPr/>
          </p:nvSpPr>
          <p:spPr>
            <a:xfrm>
              <a:off x="2616480" y="6172200"/>
              <a:ext cx="1231200" cy="838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usin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Lo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(COM/.NET DLL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8360" y="6591240"/>
              <a:ext cx="25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71880" y="6476760"/>
              <a:ext cx="259560" cy="2376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19040" y="6019920"/>
            <a:ext cx="1143000" cy="1066680"/>
          </a:xfrm>
          <a:prstGeom prst="can">
            <a:avLst>
              <a:gd name="adj" fmla="val 25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atabase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76840" y="5791320"/>
            <a:ext cx="400068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676840" y="6248520"/>
            <a:ext cx="1676520" cy="838080"/>
            <a:chOff x="5676840" y="6248520"/>
            <a:chExt cx="1676520" cy="838080"/>
          </a:xfrm>
        </p:grpSpPr>
        <p:sp>
          <p:nvSpPr>
            <p:cNvPr id="72" name=""/>
            <p:cNvSpPr/>
            <p:nvPr/>
          </p:nvSpPr>
          <p:spPr>
            <a:xfrm>
              <a:off x="6121800" y="6248520"/>
              <a:ext cx="1231560" cy="8380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usin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Lo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(COM/.NET DLL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3320" y="6667560"/>
              <a:ext cx="25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76840" y="6553080"/>
              <a:ext cx="259560" cy="2376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8229600" y="6019920"/>
            <a:ext cx="1143000" cy="1066680"/>
          </a:xfrm>
          <a:prstGeom prst="can">
            <a:avLst>
              <a:gd name="adj" fmla="val 25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atabase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52960" y="5715000"/>
            <a:ext cx="1447920" cy="457200"/>
          </a:xfrm>
          <a:prstGeom prst="rightArrow">
            <a:avLst>
              <a:gd name="adj1" fmla="val 50000"/>
              <a:gd name="adj2" fmla="val 79173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OAP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52960" y="6400800"/>
            <a:ext cx="1447920" cy="457200"/>
          </a:xfrm>
          <a:prstGeom prst="leftArrow">
            <a:avLst>
              <a:gd name="adj1" fmla="val 50000"/>
              <a:gd name="adj2" fmla="val 79173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95960" y="3733920"/>
            <a:ext cx="4419720" cy="137160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00880" y="4114800"/>
            <a:ext cx="1231560" cy="8380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ata Lo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20040" y="3962520"/>
            <a:ext cx="1143000" cy="1066680"/>
          </a:xfrm>
          <a:prstGeom prst="can">
            <a:avLst>
              <a:gd name="adj" fmla="val 25000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atabase(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962520"/>
            <a:ext cx="1295280" cy="106668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ata 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4114800"/>
            <a:ext cx="3733560" cy="457200"/>
          </a:xfrm>
          <a:prstGeom prst="rightArrow">
            <a:avLst>
              <a:gd name="adj1" fmla="val 50000"/>
              <a:gd name="adj2" fmla="val 204154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76720"/>
            <a:ext cx="9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Tahoma"/>
              </a:rPr>
              <a:t>Data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view of the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tateful XML Proc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less XML Process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hat is an XML Parsing API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ming model for accessing an XML doc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s on top of an XML parsing eng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/platform indepen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ocument Object Model(DOM)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common XML parser A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e based A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3C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is isn’t necessarily a good thing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DOM compliant parsers use the same object 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a MS or COM thing…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8:58:05Z</dcterms:created>
  <dc:creator>Todd Kimble</dc:creator>
  <dc:description>Copyright 2000 Fawcette Technical Publications, all rights reserved.</dc:description>
  <cp:keywords>VCDC VBITS SQL2THEMAX BUILDER</cp:keywords>
  <dc:language>en-US</dc:language>
  <cp:lastModifiedBy>Jon Rauschenberger</cp:lastModifiedBy>
  <cp:lastPrinted>1998-07-04T09:05:35Z</cp:lastPrinted>
  <dcterms:modified xsi:type="dcterms:W3CDTF">2001-10-12T16:07:07Z</dcterms:modified>
  <cp:revision>130</cp:revision>
  <dc:subject>Fawcette Technical Publications Conferences</dc:subject>
  <dc:title>My talk at a Fawcette conference XXXXX VSLIVE TEMPLATE XXXX</dc:title>
</cp:coreProperties>
</file>