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831388" cy="73152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39560" y="4320720"/>
            <a:ext cx="5978880" cy="463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160" bIns="471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058760" y="682560"/>
            <a:ext cx="4686480" cy="34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-12600" y="-8280"/>
            <a:ext cx="6858000" cy="2271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457200" indent="0" algn="r">
              <a:spcBef>
                <a:spcPts val="249"/>
              </a:spcBef>
              <a:spcAft>
                <a:spcPts val="374"/>
              </a:spcAft>
              <a:buNone/>
              <a:tabLst>
                <a:tab algn="l" pos="0"/>
                <a:tab algn="l" pos="1130400"/>
                <a:tab algn="l" pos="1469880"/>
                <a:tab algn="l" pos="1808280"/>
                <a:tab algn="l" pos="220356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58760" y="682560"/>
            <a:ext cx="4686480" cy="34876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39560" y="4320720"/>
            <a:ext cx="5978880" cy="463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data type is a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value typ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if it holds the data within its own memory allocation. A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reference typ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contains a pointer to another memory location that holds the data.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alue types include: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numeric data types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oolean, Char, and Date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structures, even if their members are reference types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umerations, since their underlying type is always Byte, Short, Integer, or Long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ference types include: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ring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arrays, even if their elements are value types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ass types, such as Form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ou can assign either a reference type or a value type to a variable of the Object data type. An Object variable always holds a pointer to the data, never the data itself. However, if you assign a value type to an Object variable, it behaves as if it holds its own data.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ou can find out whether an Object variable is acting as a reference type or a value type by passing it to the IsReference method on the Information class in the Microsoft.VisualBasic namespace. Microsoft.VisualBasic.Information.IsReference returns True if the content of the Object variable represents a reference type.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058760" y="682560"/>
            <a:ext cx="4686480" cy="34876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39560" y="4320720"/>
            <a:ext cx="5978880" cy="463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160" bIns="471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ven though it is called the “Collections” name space there is no Collection object.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shtable contains properties like ContainsKey, ContainsValu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rtedList sorts by the Key valu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53640" y="4284360"/>
            <a:ext cx="79218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5364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300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2040" y="167328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0800" y="167328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53640" y="428436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2040" y="428436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0800" y="428436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13880" y="422280"/>
            <a:ext cx="84013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5364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300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53640" y="4284360"/>
            <a:ext cx="79218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829800" cy="1219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3204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Font typeface="Tahoma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06992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4400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4400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4400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91520" y="6553080"/>
            <a:ext cx="210024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laritycon.com/home.asp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0000" y="2600280"/>
            <a:ext cx="8356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op Ten Gotcha’s for VB.NE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2666880"/>
            <a:ext cx="3962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odd Kim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Director of Consulting Servic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Clarity Consulting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Prerequisites for presentation: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I assume you know: 1) Visual Basic o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Visual Basic.NET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3"/>
              </a:spcBef>
              <a:spcAft>
                <a:spcPts val="312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3"/>
              </a:spcBef>
              <a:spcAft>
                <a:spcPts val="312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Tahoma"/>
              </a:rPr>
              <a:t>Level: Intermedia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514600"/>
            <a:ext cx="54100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2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3 – New object oriented featur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 fontScale="98000"/>
          </a:bodyPr>
          <a:p>
            <a:pPr marL="452520" indent="-45252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1000" indent="-23616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es, implementation inheritance is finally available in V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1000" indent="-23616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ludes visual inheritance (e.g. forms, control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to use inherit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1000" indent="-23616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ou have objects of different types that have similar functiona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1000" indent="-23616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ou have general processing to be done for sets of objec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not use inheritance wh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1000" indent="-23616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ou only need one function from the base class. Delegate to the class instead of inheriting from i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1000" indent="-23616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you would need to override all of the functions. Use an interface instead of implementation inherita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1000" indent="-23616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semantics of the hierarchy are not clear - there is no clear "is a" type of relationshi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3 – New object oriented featur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4 – Forms are really object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 fontScale="97000"/>
          </a:bodyPr>
          <a:p>
            <a:pPr marL="447840" indent="-44784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s are obj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92720" indent="-23364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ss that inherits from System.Windows.Forms.Fo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92720" indent="-23364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st create instance of form class before using - no more {form class name}.Sh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92720" indent="-23364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m definition now included in code vi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ols are no longer declared as Public by defau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92720" indent="-23364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 still declare as Public Shared, but not recommend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92720" indent="-23364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te public properties on form to access control val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-visual controls no longer show up on wind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92720" indent="-23364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played in pane at bottom of window design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312"/>
              </a:spcBef>
              <a:spcAft>
                <a:spcPts val="462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Note that Docking and Anchoring are standard features on control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4 – Forms are really object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5 – Language syntax chang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erty declar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32040" indent="0">
              <a:lnSpc>
                <a:spcPct val="9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Public Property Description() As String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932040" indent="0">
              <a:lnSpc>
                <a:spcPct val="9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Set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932040" indent="0">
              <a:lnSpc>
                <a:spcPct val="9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mstrDescription = Value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932040" indent="0">
              <a:lnSpc>
                <a:spcPct val="9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nd Set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932040" indent="0">
              <a:lnSpc>
                <a:spcPct val="9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et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932040" indent="0">
              <a:lnSpc>
                <a:spcPct val="9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scription = mstrDescription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932040" indent="0">
              <a:lnSpc>
                <a:spcPct val="9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nd Get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932040" indent="0">
              <a:lnSpc>
                <a:spcPct val="9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nd Property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932040" indent="0">
              <a:lnSpc>
                <a:spcPct val="9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DT defini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se “Structure” instead of “Type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932040" indent="0">
              <a:lnSpc>
                <a:spcPct val="9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Structure MyStructure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932040" indent="0">
              <a:lnSpc>
                <a:spcPct val="9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Public Name As String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932040" indent="0">
              <a:lnSpc>
                <a:spcPct val="9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Public Age As Byte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932040" indent="0">
              <a:lnSpc>
                <a:spcPct val="9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nd Structure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5 – Language syntax chang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52560" y="1523520"/>
            <a:ext cx="7921440" cy="499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 fontScale="99000"/>
          </a:bodyPr>
          <a:p>
            <a:pPr marL="457200" indent="-4572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09280" indent="-23868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y default all parms are now passed by value instead of by referenc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keyw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09280" indent="-23868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 VB.NET use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09280" indent="0">
              <a:spcAft>
                <a:spcPts val="624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Return [data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9280" indent="-23868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 place of: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922680" indent="0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function name = [data]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922680" indent="0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xit Function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more “Set” or “Le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09280" indent="-23868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 VB.NET everything is an object, so no need for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922680" indent="0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Set Obj = ObjDef ‘Not valid in VB.NET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5 – Language syntax chang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oper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heck out: </a:t>
            </a:r>
            <a:r>
              <a:rPr b="1" lang="en-US" sz="2200" spc="-1" strike="noStrike">
                <a:solidFill>
                  <a:srgbClr val="ffff00"/>
                </a:solidFill>
                <a:latin typeface="Courier New"/>
              </a:rPr>
              <a:t>+=, -=, *=, /=, \=, ^=, &amp;=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till no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X++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X-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in VB.NE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ault properties &amp; meth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 more default properties or methods on objec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rces explicit use of properti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932040"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OK: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txtInput.Text = “some text”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932040"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Not OK: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txtInput = “some text”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nd is now End W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5 – Language syntax chang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debug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Use</a:t>
            </a:r>
            <a:r>
              <a:rPr b="1" lang="en-US" sz="2200" spc="-1" strike="noStrike">
                <a:solidFill>
                  <a:srgbClr val="ffff00"/>
                </a:solidFill>
                <a:latin typeface="Courier New"/>
              </a:rPr>
              <a:t> Debug.WriteLine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instead of</a:t>
            </a:r>
            <a:r>
              <a:rPr b="1" lang="en-US" sz="2200" spc="-1" strike="noStrike">
                <a:solidFill>
                  <a:srgbClr val="ffff00"/>
                </a:solidFill>
                <a:latin typeface="Courier New"/>
              </a:rPr>
              <a:t> Debug.Pri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Also use</a:t>
            </a:r>
            <a:r>
              <a:rPr b="1" lang="en-US" sz="2200" spc="-1" strike="noStrike">
                <a:solidFill>
                  <a:srgbClr val="ffff00"/>
                </a:solidFill>
                <a:latin typeface="Courier New"/>
              </a:rPr>
              <a:t> Write, WriteIf, WriteLineIf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for more control over outpu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2200" spc="-1" strike="noStrike">
                <a:solidFill>
                  <a:srgbClr val="ffff00"/>
                </a:solidFill>
                <a:latin typeface="Courier New"/>
              </a:rPr>
              <a:t> Write*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hods output to the “Output” window, not the immediate window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100000"/>
              </a:lnSpc>
              <a:spcAft>
                <a:spcPts val="689"/>
              </a:spcAft>
              <a:buClr>
                <a:srgbClr val="ffff00"/>
              </a:buClr>
              <a:buFont typeface="Courier New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urier New"/>
              </a:rPr>
              <a:t>Debug.Assert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conditionally outputs call stack and message bas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an also output asserts to log file with config file setting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6 – Variable declaration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 fontScale="95000"/>
          </a:bodyPr>
          <a:p>
            <a:pPr marL="438480" indent="-43848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ero-based arr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6520" indent="-22896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wer bound of arrays is always zer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76520" indent="-22896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spite early reports, number supplied at declaration is the upper bound, not the number of elemen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76520" indent="-228960">
              <a:lnSpc>
                <a:spcPct val="90000"/>
              </a:lnSpc>
              <a:spcAft>
                <a:spcPts val="689"/>
              </a:spcAft>
              <a:buClr>
                <a:srgbClr val="ffff00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This differs from array declarations in C#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7652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38480" indent="-43848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e variable declarations on single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6520" indent="-22896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 longer declare different types on same line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0162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on’t work in VB.NET: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im X as Integer, S as St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76520" indent="-22896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B.NET allows multiple vars in single declaration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016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im X, Y, Z as Integ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016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VB.NET all three vars are Integer, under VB6 first two are variants, last is Integ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76520" indent="0">
              <a:lnSpc>
                <a:spcPct val="90000"/>
              </a:lnSpc>
              <a:spcAft>
                <a:spcPts val="689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6 – Variable declaration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lize variables when declar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932040" indent="0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im iTemp As Int16 = 215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932040" indent="0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im sName As String = “VB.NET Rocks”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bjects too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932040" indent="0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im con As New SQLConnection(strConnString)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932040" indent="0">
              <a:lnSpc>
                <a:spcPct val="100000"/>
              </a:lnSpc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ck-level Scop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ariables declared within a code block are only accessible within the block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de block is set of statements that end with “End”, “Else”, “Loop” or “Next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932040"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47640" y="304920"/>
            <a:ext cx="8400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bou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2560" y="1676520"/>
            <a:ext cx="792144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rity Consulting 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ww.claritycon.co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hicago based technology consulting fir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uild enterprise class applications using Microsoft’s development tools and serv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ave worked with Visual Studio .NET for 3+ years!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d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irector of Consulting Services and Partn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veloping solutions with Microsoft technology for 10+ ye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Clarity Consult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62640" y="6505560"/>
            <a:ext cx="3467160" cy="80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57480" y="1676520"/>
            <a:ext cx="6172200" cy="3733560"/>
          </a:xfrm>
          <a:prstGeom prst="cloudCallout">
            <a:avLst>
              <a:gd name="adj1" fmla="val 49819"/>
              <a:gd name="adj2" fmla="val 73087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2a87"/>
                </a:solidFill>
                <a:latin typeface="Verdana"/>
              </a:rPr>
              <a:t>Meet the Clarity speakers tonight from 6:00-7:30 in the Atrium Loung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2a87"/>
                </a:solidFill>
                <a:latin typeface="Verdana"/>
              </a:rPr>
              <a:t>(2</a:t>
            </a:r>
            <a:r>
              <a:rPr b="1" lang="en-US" sz="2800" spc="-1" strike="noStrike" baseline="30000">
                <a:solidFill>
                  <a:srgbClr val="952a87"/>
                </a:solidFill>
                <a:latin typeface="Verdana"/>
              </a:rPr>
              <a:t>nd</a:t>
            </a:r>
            <a:r>
              <a:rPr b="1" lang="en-US" sz="2800" spc="-1" strike="noStrike">
                <a:solidFill>
                  <a:srgbClr val="952a87"/>
                </a:solidFill>
                <a:latin typeface="Verdana"/>
              </a:rPr>
              <a:t> floor)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7 – No more control array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ol arrays not supported in VB.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ntrols on single form cannot have same nam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 more Index propert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B.NET changes the way event handlers are establish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 longer driven by name of subroutin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ngle sub can handle multiple controls/even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an achieve control array-like behavio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7 – No more control array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t Handler De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8 – Changes to the IDE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Goo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ngle IDE for all languages/environ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bbed document, auto h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omatic code format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ilt in editors for HTML, XML, Style Shee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oss language debugging, easy web debugg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to look out f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mand window defaults to “Command mode” – type “immed” to switch to immediate mo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type ahead in Immediate mo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 Break/Edit/Continue 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yboard mappings driven by My Profile on start p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reach Form events in code view, select (Base Class Events) from left drop do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9 – Garbage collection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n object is destroyed is now determined by the .NET Garbage Coll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re may be a delay between the time an object is terminated and when it is actually destroy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nlike VB6 where object is destroyed once ref count reaches zer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oid using the Finalize method to clean up obj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akes longer to allocate and destroy objec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ay unnecessarily prolong life of objec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 guarantee what order the Finalize methods are call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9 – Garbage collection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a custom “Close” or “Dispose”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m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10 – Error Handling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uctured error hand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ry…Catch…Finally like in C++ and Jav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069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069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Obj.DoSomeWor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069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atch e As Excep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069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gError(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069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al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069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Obj.Disp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069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End T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hanced Exception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racks nested excep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vides StackTrace to help pinpoint erro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vides App and method nam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069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10 – Error Handling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“Throw” an err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069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hrow New System.Exception(“Error Message”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B6 style error handling still suppor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n Error Goto …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rr objec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not place a Try…Catch block around module level declar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e careful when initializing module level objects in declaration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0699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rivate obj As New MyObject(Parm1, Parm2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ther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y bound contr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y just might have gotten it right this tim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an bind to any structured data that implements the IList interface (e.g. DataSet, Arrays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ebForm controls very cool and very powerfu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Questions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43080" indent="-3430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ct me: Todd Kim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mail: tkimble@claritycon.co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info on Clarit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ww.claritycon.co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ww.ClarityKnows.ne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et the Clarity speakers tonight from 6:00-7:30 in the Atrium Loun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2nd flo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gotcha’s, tips, tricks and other potential issues to look out for when moving to VB .NET from earlier versions of V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1 – New/modified data typ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 fontScale="99000"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09280" indent="-23868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hort integer is now 16 bit (equivalent to old Integer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09280" indent="-23868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teger is now 32 bit (equivalent to old Long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09280" indent="-23868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ng is now 64 bi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09280" indent="-23868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lso use new data types: Int16, Int32, Int64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c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09280" indent="-23868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 not supported in VB .NE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09280" indent="-23868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se Decimal instead (greater precision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ant does not exist in VB .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09280" indent="-23868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bject is now the universal data typ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09280" indent="-23868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se GetType method on the object clas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09280" indent="-23868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alue Type versus Reference Typ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1 – New/modified data typ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 fontScale="99000"/>
          </a:bodyPr>
          <a:p>
            <a:pPr marL="457200" indent="-45720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9280" indent="-23868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e objects within VB.NET, though are treated as a primitive/value type (no explicit “new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9280" indent="-23868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st existing string manipulation functions (plus new ones) are now methods on String cl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9280" indent="-23868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n string is modified, object is destroyed and recre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9280" indent="-23868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 the StringBuilder class for heavy string manipu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059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te/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9280" indent="-23868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te type (or DateTime in .NET Framework) is now a 8 byte inte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9280" indent="-23868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w, Date, Day, Month &amp; Year are now properties of the System.DateTime struc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9280" indent="-238680">
              <a:lnSpc>
                <a:spcPct val="90000"/>
              </a:lnSpc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teTime.Now.Ticks provides 100-nanosecond tick count for more granular tim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1 – New/modified data typ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ctions are g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se objects from the System.Collections namespac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ashTable most similar to Collection objec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ortedList provides built-in sort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tack object implements a last-in-first-out collec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2 – What is a Namespace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spaces organize the objects defined in an assemb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 assembly can contain one or more namespac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amespaces can span assembli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objects are defined to a name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use objects in another namespace, add reference to the assembly that contains the namespac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B .NET projects are created with references to the System and Microsoft.VisualBasic namespac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Imports to simplify na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mports saves you from typing fully-qualified nam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lso use Imports to alias a namespac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2 – What is a Namespace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m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#3 – New object oriented featur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 fontScale="98000"/>
          </a:bodyPr>
          <a:p>
            <a:pPr marL="452520" indent="-45252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B.NET FINALLY includes true OO featur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01000" indent="-23616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nstructors/destructors, inheritance, overloading, polymorphism, etc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ruc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01000" indent="-23616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“New” constructor replaces the Initialize ev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01000" indent="-23616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llows parameters to be passed to object on creation!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01000" indent="-23616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an overload New constructor to use different parameter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loa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01000" indent="-23616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vide multiple implementations of a metho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01000" indent="-23616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ame name, differentiated by argument lis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01000" indent="-236160">
              <a:lnSpc>
                <a:spcPct val="9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mpiler selects the proper implementa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7T16:48:46Z</dcterms:created>
  <dc:creator>Todd Kimble</dc:creator>
  <dc:description>Copyright 2000 Fawcette Technical Publications, all rights reserved.</dc:description>
  <cp:keywords>VCDC VBITS SQL2THEMAX BUILDER</cp:keywords>
  <dc:language>en-US</dc:language>
  <cp:lastModifiedBy>tkimble</cp:lastModifiedBy>
  <cp:lastPrinted>1998-07-04T09:05:35Z</cp:lastPrinted>
  <dcterms:modified xsi:type="dcterms:W3CDTF">2002-02-14T21:48:04Z</dcterms:modified>
  <cp:revision>130</cp:revision>
  <dc:subject>Fawcette Technical Publications Conferences</dc:subject>
  <dc:title>My talk at a Fawcette conference XXXXX VSLIVE TEMPLATE XXXX</dc:title>
</cp:coreProperties>
</file>