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4208040" y="638280"/>
            <a:ext cx="2397240" cy="18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19FA44-DE48-40CB-9CA2-DDA306DB60D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45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msdn.microsof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920" y="225360"/>
            <a:ext cx="934920" cy="43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60840" y="225360"/>
            <a:ext cx="1397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T1-3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920" y="8589960"/>
            <a:ext cx="152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Logo 95"/>
                <a:ea typeface="Microsoft Logo 95"/>
              </a:rPr>
              <a:t>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50AD4E2-24E0-46B2-9BEA-F0274D70333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1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1360" y="286596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6172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0040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2908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136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0040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2908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920" y="115560"/>
            <a:ext cx="89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6172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33360" indent="-33336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37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2320" indent="-259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03400" indent="-2696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18760" indent="-2480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18760" indent="-2480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18760" indent="-2480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tdotnet.com/" TargetMode="Externa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8120" y="314280"/>
            <a:ext cx="826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How to Implement Security in .N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9440" y="3079800"/>
            <a:ext cx="589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Jon Rauschenbe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Director of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larity Consulting, In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jrausch@clarityc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ermission Type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ile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ser Interface – includes clipbo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ystem Lo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ecurity Exception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exception of type SecurityException is thrown when code attempts to access a protected resource without having the needed permiss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ermitOnly &amp; RevertPermitOnl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3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missions may be granted by code using the PermitOnly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re permissions may not be granted than is allowed by the current level of tr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 RevertPermitOnly method will cause the effects of any previous PermitOnly to be cancel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Walking the Stack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6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ach component in the calling chain has permissions associated with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missions are kept in a Stack Fr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request for access to a protected resource causes the CLR to walk the stack evaluating each frames permi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more requests for protected resources, the more system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mand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missions may be demanded before accessing a protected resource using the Demand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ly the calling components permissions are check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Working with Asser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Assert method can be used to limit the scope of the stack wal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cessing overhead decre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y inadvertently result in weakened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ermission Set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3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group or collection of permi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ipulate a group of permissions with one method c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vertAll method cancels all  previous permission op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vailable only as a method of codeAccessPermission typ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Working with Declarative Securit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38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de access security can be implemented through 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vailable on the assembly, class or Method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ored as part of the assemblies meta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2880" y="694800"/>
            <a:ext cx="829944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Demonstration 1</a:t>
            </a:r>
            <a:br>
              <a:rPr sz="48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5400"/>
            </a:b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54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Deny &amp; Permit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Demand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Walking the Stack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Asset &amp; Permission Sets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Declarative Securit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5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olated Sto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bout…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360" y="1571760"/>
            <a:ext cx="876168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rity Consulting 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ww.claritycon.c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cago based technology consulting fi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enterprise class applications using Microsoft’s development tools and serv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worked with Visual Studio .NET for 3+ year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 of Techn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DN Regional Dir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Basic Strategic Design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importantly…active project leade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88120" y="5981760"/>
            <a:ext cx="3755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Evidenc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2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LR examines evidence about code to determine if it is trustwort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idence is presented by an assembly at load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cation based or identity 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4348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igin of the assembly, assembly publisher, digital signature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Code Group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36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ssembly evidence is matched against a code group to gain permi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de group has 2 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mbership con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mission s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assembly can match more than one code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fault Security Polic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6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prised of many code groups that map to different assembly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cal, intranet, internet assemb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stalled as part of the .NET Frame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n be modified by an administra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Administration Tool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.Net Framework configuration tool can be used to modify and manage security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scorcfg.msc - Management Conso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ommand-line tool caspol.exe can be used to modify and managed security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olicy Level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curity policy has 4 policy leve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terprise, Machine, User and Application 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fault enterprise and User policy levels grant full trust to all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fault Machine policy level has many code gro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cal originating assemblies get more trust than intranet originating assemb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olicy Level Evalua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ach policy level is evaluated by the CLR to determine an assemblies permissions or level of tru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least amount of trust from the three policy levels is  grant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Code Group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ach policy level has a set of code gro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de groups are related hierarch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re must be at least one code group for each policy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ce the CLR determines that a code group does not map to an assembly, no dependent code groups are exami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Code Group Evalua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9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re than one code group within a policy level may map to the evidence of an assemb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policy level has the combination (union) of all code group permissions that map to an assemb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intersection of policy levels determines permissions gran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Membership Condition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45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de group may have only one membership cond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 is comprised of an attribute that matches evidence presented by an assemb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one of originating assemb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RL of originating assemb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gital signature of assembly publis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b site of the originating assemb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ermission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ode group may have only one permission s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permission set may be comprised of a variety of different permi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ll trust to all protected system re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d/Write access to a lo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d access to a specified environment var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at We Will Cover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.NET Security Topic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5760" y="1701720"/>
            <a:ext cx="8958240" cy="40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sing code and evidence based security to enforce security polic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lasses, services and tools available in the .NET Framework to manage and administer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sing isolated storage to persist client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tect data files using cryptograph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440" y="885960"/>
            <a:ext cx="83566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Demonstration 2</a:t>
            </a:r>
            <a:br>
              <a:rPr sz="48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Evidence Based Security</a:t>
            </a:r>
            <a:br>
              <a:rPr sz="5400"/>
            </a:b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54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Code Groups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NET Framework Configuration Tool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caspol.exe</a:t>
            </a:r>
            <a:r>
              <a:rPr b="1" lang="en-GB" sz="4400" spc="-1" strike="noStrike">
                <a:solidFill>
                  <a:srgbClr val="fb796b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5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idence Base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Isolated Sto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solated Storage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Overview of Isolated Securit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ows a trusted assembly to store data on a client mach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tandard file IO operations are not u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mission to access the local file system not requi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solated storage handles the physical actual physical location of the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solated Storage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tor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virtual fil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y have its own folder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les may have data of almost any ki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r data or application sta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Isolated Storage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tore Scop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ata is kept in a “Store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ores are isolated by sco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4348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by assembly, domain, user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96800" indent="-4348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ze may be limited by setting a quo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1914480"/>
            <a:ext cx="82994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Demonstration 3</a:t>
            </a:r>
            <a:br>
              <a:rPr sz="48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Isolated Storage</a:t>
            </a:r>
            <a:br>
              <a:rPr sz="4800"/>
            </a:b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54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Stores</a:t>
            </a:r>
            <a:br>
              <a:rPr sz="4400"/>
            </a:b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5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de Access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idence Based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solated Sto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3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ryptograph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Hashing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37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can protect data from being modified by computing a hash val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y size change is detec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ta can still be view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y hash algorithms are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A1, SHA256, SHA384, SHA512, MD5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1200" indent="-4395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yptographic service provider makes hash algorithms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ryptograph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Encryp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15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can protect data from being viewed by encrypting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ream Ba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ryptography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ymmetric Encryp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39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veral symmetric encryption algorithms are avail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S, TripleDES, RC2, Rijndael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cryptographic service provider provides implementation of the encrption/decrption algorith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ymmetric key encryption algorithms use the same key to encrypt and decrypt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ession Prerequisite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0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erience With The Following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sual Stud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ing with .NET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4120" y="507204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c508"/>
                </a:solidFill>
                <a:latin typeface="Arial"/>
              </a:rPr>
              <a:t>Level 2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ryptograph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cryp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1360" y="1936800"/>
            <a:ext cx="8958240" cy="251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ata is converted from encoded form back to readable 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ame key that was for encryption is used for decry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ymmetric key encryption/decryp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360" y="1209240"/>
            <a:ext cx="82234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Demonstration 4</a:t>
            </a:r>
            <a:br>
              <a:rPr sz="48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Cryptography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54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Hash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Encryption</a:t>
            </a:r>
            <a:br>
              <a:rPr sz="3600"/>
            </a:br>
            <a:r>
              <a:rPr b="1" lang="en-GB" sz="3600" spc="-1" strike="noStrike">
                <a:solidFill>
                  <a:srgbClr val="fb796b"/>
                </a:solidFill>
                <a:latin typeface="Arial"/>
              </a:rPr>
              <a:t>Decryption</a:t>
            </a:r>
            <a:br>
              <a:rPr sz="4400"/>
            </a:b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ession Summary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44160" cy="22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5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Haven’t Seen Everyt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B .NET and Visual C#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n use the security 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For More Information…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4963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Web site a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</a:rPr>
              <a:t>msdn.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</a:rPr>
              <a:t>msdn.microsoft.com/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</a:rPr>
              <a:t>Msdn.microsoft.com/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t Dot 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  <a:hlinkClick r:id="rId2"/>
              </a:rPr>
              <a:t>www.gotdotne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76132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MS Press</a:t>
            </a:r>
            <a:br>
              <a:rPr sz="4800"/>
            </a:br>
            <a:r>
              <a:rPr b="1" lang="en-US" sz="3500" spc="-1" strike="noStrike">
                <a:solidFill>
                  <a:srgbClr val="fb796b"/>
                </a:solidFill>
                <a:latin typeface="Arial"/>
              </a:rPr>
              <a:t>Essential Resources for Developers</a:t>
            </a:r>
            <a:endParaRPr b="1" lang="en-US" sz="35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53852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find the latest developer related titles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c508"/>
                </a:solidFill>
                <a:latin typeface="Arial"/>
              </a:rPr>
              <a:t>www.microsoft.com/msp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17188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886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60088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315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2133720" y="1533600"/>
            <a:ext cx="1584360" cy="190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3876840" y="1533600"/>
            <a:ext cx="1562040" cy="191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5576760" y="1533600"/>
            <a:ext cx="1609920" cy="1919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461880" y="1542960"/>
            <a:ext cx="1509840" cy="1906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7315200" y="1542960"/>
            <a:ext cx="15397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76132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Training</a:t>
            </a:r>
            <a:br>
              <a:rPr sz="4800"/>
            </a:br>
            <a:r>
              <a:rPr b="1" lang="en-US" sz="3500" spc="-1" strike="noStrike">
                <a:solidFill>
                  <a:srgbClr val="fb796b"/>
                </a:solidFill>
                <a:latin typeface="Arial"/>
              </a:rPr>
              <a:t>Training Resources for Developers</a:t>
            </a:r>
            <a:endParaRPr b="1" lang="en-US" sz="35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93360"/>
            <a:ext cx="8647200" cy="27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350 -  Securing and Deploying Microsoft .NET Assembl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: Tod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349 - Programming the Microsoft .NET Framework Using C#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: Tod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373 - Programming with Microsoft Visual Basic .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: Tod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8040" y="408636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locate a training provider for this course, please 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</a:rPr>
              <a:t>mcspreferral.microsoft.com/default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ertified Technical Education Centers (CTEC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Microsoft’s premier partners for training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7360" y="3548160"/>
            <a:ext cx="196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 &amp;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52880" y="354816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Training, Tech-Ed, PD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er Days, MSDN/Onsite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MSDN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Essential Resources for Developer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7360" y="161136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cription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7360" y="249696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7360" y="5594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ershi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360" y="4578480"/>
            <a:ext cx="17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Pub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52880" y="1611360"/>
            <a:ext cx="54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brary, OS, Professional, Enterprise, Universal Delivered via CD-ROM, DVD,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52880" y="2496960"/>
            <a:ext cx="47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Online, MSDN Fl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52880" y="559440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User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52880" y="4578480"/>
            <a:ext cx="47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SDN Magaz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120" y="540216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1120" y="438300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120" y="331956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1120" y="232560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68640" y="1477440"/>
            <a:ext cx="0" cy="514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MSDN Subscriptions 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THE way to get Visual Studio .NE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09520" y="5321160"/>
            <a:ext cx="1141560" cy="1384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00560" y="5322960"/>
            <a:ext cx="112716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41200" y="3699000"/>
            <a:ext cx="1144800" cy="1387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438800" y="4105440"/>
            <a:ext cx="504720" cy="399960"/>
          </a:xfrm>
          <a:prstGeom prst="rightArrow">
            <a:avLst>
              <a:gd name="adj1" fmla="val 50000"/>
              <a:gd name="adj2" fmla="val 31548"/>
            </a:avLst>
          </a:prstGeom>
          <a:solidFill>
            <a:srgbClr val="fb79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48160" y="5718240"/>
            <a:ext cx="485640" cy="399960"/>
          </a:xfrm>
          <a:prstGeom prst="rightArrow">
            <a:avLst>
              <a:gd name="adj1" fmla="val 50000"/>
              <a:gd name="adj2" fmla="val 30356"/>
            </a:avLst>
          </a:prstGeom>
          <a:solidFill>
            <a:srgbClr val="fb79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62560" y="2500200"/>
            <a:ext cx="504720" cy="400320"/>
          </a:xfrm>
          <a:prstGeom prst="rightArrow">
            <a:avLst>
              <a:gd name="adj1" fmla="val 50000"/>
              <a:gd name="adj2" fmla="val 31520"/>
            </a:avLst>
          </a:prstGeom>
          <a:solidFill>
            <a:srgbClr val="fb79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360" y="15210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ual Studio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2600" y="150804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SDN Subscri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84640" y="3592440"/>
            <a:ext cx="3592800" cy="320220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8406360" y="4824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53960" y="5322960"/>
            <a:ext cx="3092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Profess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Tools to build applications and XML Web services  for Windows and the We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6680" y="5591160"/>
            <a:ext cx="229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MSDN Professional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1199 new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899 renewal/upgr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2440" y="3984480"/>
            <a:ext cx="241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MSDN Enterprise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2199 new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1599 renewal/upgr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180040" y="3700440"/>
            <a:ext cx="1154160" cy="140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5178600" y="2073240"/>
            <a:ext cx="1152360" cy="1397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247680" y="2082960"/>
            <a:ext cx="1111320" cy="1346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41760" y="2363760"/>
            <a:ext cx="2410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MSDN Universal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2799 new</a:t>
            </a:r>
            <a:br>
              <a:rPr sz="1600"/>
            </a:b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$2299 renewal/upgr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0160" y="3701880"/>
            <a:ext cx="312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Enterprise Develo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Enterprise lifecycle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Team development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Core .NET Enterprise Serv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116080"/>
            <a:ext cx="321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8c508"/>
                </a:solidFill>
                <a:uFillTx/>
                <a:latin typeface="Arial"/>
              </a:rPr>
              <a:t>Enterprise Archit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Software and data mode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Enterprise 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8c5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c508"/>
                </a:solidFill>
                <a:latin typeface="Arial"/>
              </a:rPr>
              <a:t>Architectural  guid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480" y="432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ere Can I Get MSDN?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71440" y="1092240"/>
            <a:ext cx="88725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25600" indent="-525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 MSDN Online at</a:t>
            </a:r>
            <a:br>
              <a:rPr sz="3200"/>
            </a:b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ster for the MSDN Flash Email Newsletter at </a:t>
            </a: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/resources/</a:t>
            </a:r>
            <a:br>
              <a:rPr sz="3200"/>
            </a:b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flash.as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 an MSDN CD Subscriber at </a:t>
            </a: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/subscri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online semin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rcosoft.com/training/semin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5600" indent="-525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end More MSDN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2680" y="228600"/>
            <a:ext cx="85327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Become A Microsoft Certified Solution Developer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816200"/>
            <a:ext cx="853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MCS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mium certification for professionals who design and develop custom business 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I attain MCSD Certific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requires passing four exams to prove competency with Microsoft solution architecture, desktop applications, distributed application development, and development t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o I Get More Inform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ore information about certification requirements, exams, and training option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it </a:t>
            </a:r>
            <a:r>
              <a:rPr b="1" lang="en-US" sz="2400" spc="-1" strike="noStrike" u="sng">
                <a:solidFill>
                  <a:srgbClr val="fb796b"/>
                </a:solidFill>
                <a:uFillTx/>
                <a:latin typeface="Arial"/>
              </a:rPr>
              <a:t>www.microsoft.com/m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781680" y="6026040"/>
            <a:ext cx="2286000" cy="75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idence Based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lated Stor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yptograp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ct me: jrausch@claritycon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info on Clarit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claritycon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ClarityKnows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8840" y="5915160"/>
            <a:ext cx="357516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ession Credit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2160" indent="-45216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: Gary M. Gumbin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160" indent="-45216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er/Edi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160" indent="-45216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Speciali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5800" indent="-32256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reviewer 1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5800" indent="-32256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reviewer 2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Overview of Code Access Securit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5760" y="1701360"/>
            <a:ext cx="8958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vides powerful features to protect against inadvertent or malicious code attac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LR ensures code has enough trust to be able to access protected system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de must have needed permissions to access protected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120" indent="-39888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missions granted based identity and origin of c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fault Security Polic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fault Security Policy is installed as part of the .NET Frame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as default permissions for code access to protected system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ermission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5760" y="1891800"/>
            <a:ext cx="8958240" cy="27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missions can be defined to limit access to system resource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 EnvironmentPermission class for environment variables access permiss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constructor defines the level of permission (read, write,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ode Access Security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ny &amp; Revert Deny 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1360" y="1936440"/>
            <a:ext cx="8958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Deny method of the permission class denies access to the associated resou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9440" indent="-5594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 RevertDeny method will cause the effects of any previous Deny to be cancel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7:56:10Z</dcterms:created>
  <dc:creator>Gary M. Gumbiner</dc:creator>
  <dc:description/>
  <cp:keywords>MSDN Base Class Library</cp:keywords>
  <dc:language>en-US</dc:language>
  <cp:lastModifiedBy>Jon Rauschenberger</cp:lastModifiedBy>
  <cp:lastPrinted>1997-09-03T17:07:51Z</cp:lastPrinted>
  <dcterms:modified xsi:type="dcterms:W3CDTF">2002-04-03T14:40:20Z</dcterms:modified>
  <cp:revision>194</cp:revision>
  <dc:subject>Q4 FY02 Content</dc:subject>
  <dc:title>How to Implement Security in 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evel">
    <vt:lpwstr>Level 300</vt:lpwstr>
  </property>
  <property fmtid="{D5CDD505-2E9C-101B-9397-08002B2CF9AE}" pid="3" name="Program">
    <vt:lpwstr>MSDN</vt:lpwstr>
  </property>
  <property fmtid="{D5CDD505-2E9C-101B-9397-08002B2CF9AE}" pid="4" name="Session ID">
    <vt:lpwstr>DEVT1-45</vt:lpwstr>
  </property>
  <property fmtid="{D5CDD505-2E9C-101B-9397-08002B2CF9AE}" pid="5" name="Status">
    <vt:lpwstr>In Progress</vt:lpwstr>
  </property>
  <property fmtid="{D5CDD505-2E9C-101B-9397-08002B2CF9AE}" pid="6" name="Support">
    <vt:lpwstr>devhelp@microsoft.com</vt:lpwstr>
  </property>
  <property fmtid="{D5CDD505-2E9C-101B-9397-08002B2CF9AE}" pid="7" name="Version">
    <vt:lpwstr>1.0</vt:lpwstr>
  </property>
  <property fmtid="{D5CDD505-2E9C-101B-9397-08002B2CF9AE}" pid="8" name="_AdHocReviewCycleID">
    <vt:r8>-1716963551</vt:r8>
  </property>
  <property fmtid="{D5CDD505-2E9C-101B-9397-08002B2CF9AE}" pid="9" name="_AuthorEmailDisplayName">
    <vt:lpwstr>Jon Rauschenberger</vt:lpwstr>
  </property>
  <property fmtid="{D5CDD505-2E9C-101B-9397-08002B2CF9AE}" pid="10" name="_EmailSubject">
    <vt:lpwstr>Webcast Code Conversion</vt:lpwstr>
  </property>
</Properties>
</file>